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12800"/>
            <a:ext cx="54864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4520"/>
            <a:ext cx="2971800" cy="4539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24520"/>
            <a:ext cx="2971800" cy="45396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Arial"/>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CC64974-0D85-47C8-87E3-271AFCB1B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78670F1-9370-4759-8FBB-BE1430782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3473280" y="465120"/>
            <a:ext cx="2351160" cy="1763640"/>
          </a:xfrm>
          <a:prstGeom prst="rect">
            <a:avLst/>
          </a:prstGeom>
          <a:ln w="0">
            <a:noFill/>
          </a:ln>
        </p:spPr>
      </p:sp>
      <p:sp>
        <p:nvSpPr>
          <p:cNvPr id="172" name="PlaceHolder 2"/>
          <p:cNvSpPr>
            <a:spLocks noGrp="1"/>
          </p:cNvSpPr>
          <p:nvPr>
            <p:ph type="body"/>
          </p:nvPr>
        </p:nvSpPr>
        <p:spPr>
          <a:xfrm>
            <a:off x="549360" y="2036520"/>
            <a:ext cx="5904000" cy="5717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ónde estás par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drew Morbitzer, un aficionado del equipo de béisbol los Gigantes de San Francisco, estaba esperando en la fila de un kiosco de venta, cuando oyó el estruendo de la multitud en el juego de béisbol. Levantó la vista y vio que la gente se elevaba en el aire. En el momento no sabía que era lo que estaba aconteciendo, pero de repente observó que una pelota se elevaba por el aire y la gente saltaba como queriendo agarrarla. Esta no era cualquier pelota, sino una que segundos antes acababa de acertar Barry Bonds, un jugador de Los Gigantes, quien estaba intentando su 715ª acierto y romper el segundo lugar del récord mundial de Babe Ruth (uno de los jugadores profesionales de béisbol más populares de la historia norteamericana). Los aficionados al béisbol habían estado esperando durante semanas para que Barry Bonds rompiera el récord, por lo que estaban ansiosos de ver este ev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elota voló por el aire fuera del alcance de los espectadores y se alojó momentáneamente en una plataforma del campo central antes de deslizarse por el techo hacia abajo y caer en las manos de Morbitzer que estaba parado en la fila de un kiosco de venta. Este director de marketing de 38 años de edad estaba usando una camiseta “Bonds 715” cuando la bola cayó sobre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ocurría la captura de la bola, su esposa estaba esperando en las gradas, preguntándose, por qué demoraba tanto. “Él estaba esperando en la fila para comprar mi maní”, ella dijo más tarde. En una entrevista con los reporteros, Bonds comentó “Yo acerté”, pero fue rápido en añadir (con su esposa al lado) que “la bola no fue su mayor captu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fue una oportunidad única en la vida de Morbitzer. Esta oportunidad de dar atención instantánea a la pelota que venía del campo de juego, lo llevó a dar entrevistas con numerosos reporteros, a escribir sobre su captura fabulosa y la oportunidad de vender su “premio” inestimable, por una cantidad considerable de dinero – todo porque él estuvo parado en el lugar correcto y en el tiempo corr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felizmente, las cosas no vienen a nosotros o a otros tan fácilmente que caen rebotando en nuestras manos o aterrizan en nuestros pies. La mayoría de nosotros tenemos que planificar, elaborar estrategias y luego trabajar duro para conseguir lo que queremos. Pero hay una lección en esta historia – dondequiera que estemos, permanezcamos listos para capturar lo que la vida puede ofrecernos. Esto puede hacer una diferencia en nuestra vida y en la vida de los demás. Esto puede abrir una puerta para un trabajo en sociedad, para una relación de orientación en la iglesia o comunidad, o incluso para una nueva amis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oportunidades que pueden cambiar el curso de la vida cuando estamos paradas en el lugar correcto y en el tiempo correct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EE7BA11-95B1-49D7-9C3E-58DA5444D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158920" y="679320"/>
            <a:ext cx="2540160" cy="1905120"/>
          </a:xfrm>
          <a:prstGeom prst="rect">
            <a:avLst/>
          </a:prstGeom>
          <a:ln w="0">
            <a:noFill/>
          </a:ln>
        </p:spPr>
      </p:sp>
      <p:sp>
        <p:nvSpPr>
          <p:cNvPr id="199" name="PlaceHolder 2"/>
          <p:cNvSpPr>
            <a:spLocks noGrp="1"/>
          </p:cNvSpPr>
          <p:nvPr>
            <p:ph type="body"/>
          </p:nvPr>
        </p:nvSpPr>
        <p:spPr>
          <a:xfrm>
            <a:off x="685800" y="2467080"/>
            <a:ext cx="5486400" cy="5718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cuidado genuino es el primer paso para crear un líder potencial, siendo sensibles a lo que Dios puede hacer a través de nosotros y a través de otros. Como un seguidor de Cristo nuestro objetivo debería ser ayudar a facilitar el crecimiento de los demás. Lamentablemente, tomarse el tiempo para entender a los demás y ayudarles en sus objetivos puede ser frustrante, sobre todo en nuestro mundo de ocupaciones o de sobrecarga. Es un hecho aceptado y aún tolerado tratar de ser lo mejor que podamos ser, y dejar que los otros hagan lo que quieren. De este modo, ninguno de nosotros vivimos de acuerdo con el propósito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lang="es-ES" sz="1200" spc="-1" strike="noStrike">
                <a:solidFill>
                  <a:srgbClr val="000000"/>
                </a:solidFill>
                <a:latin typeface="Arial"/>
              </a:rPr>
              <a:t>Gran parte de la insatisfacción entre las mujeres cristianas de hoy es, yo creo, debido a nuestra elección de Dios como el centro de nuestras vidas, pero no me alineo con los propósitos que Dios ha puesto en nosotros”. – Jan Johnson, </a:t>
            </a:r>
            <a:r>
              <a:rPr b="1" i="1" lang="es-ES" sz="1200" spc="-1" strike="noStrike">
                <a:solidFill>
                  <a:srgbClr val="000000"/>
                </a:solidFill>
                <a:latin typeface="Arial"/>
              </a:rPr>
              <a:t>Viviendo un propósito – Vida Plena.</a:t>
            </a:r>
            <a:r>
              <a:rPr b="0" lang="es-ES" sz="1200" spc="-1" strike="noStrike">
                <a:solidFill>
                  <a:srgbClr val="000000"/>
                </a:solidFill>
                <a:latin typeface="Arial"/>
              </a:rPr>
              <a:t> Este propósito significa que necesitamos abrir los ojos y comprender lo que otros son capaces. Hay muchas ideas preconcebidas sobre lo que un líder puede hacer, pero Dios, en su infinita sabiduría, nos da los dones que necesitamos para hacer mucho para él. No debemos reprimir el deseo de otra persona para el liderazgo, pensando que no está a la altura de ello. La gente aprende a amar y apreciar a un líder cristiano que vive la vida de un verdadero seguidor de Cristo y que es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historia de niños </a:t>
            </a:r>
            <a:r>
              <a:rPr b="0" i="1" lang="es-ES" sz="1200" spc="-1" strike="noStrike">
                <a:solidFill>
                  <a:srgbClr val="000000"/>
                </a:solidFill>
                <a:latin typeface="Arial"/>
              </a:rPr>
              <a:t>El Conejo de Peluche </a:t>
            </a:r>
            <a:r>
              <a:rPr b="0" lang="es-ES" sz="1200" spc="-1" strike="noStrike">
                <a:solidFill>
                  <a:srgbClr val="000000"/>
                </a:solidFill>
                <a:latin typeface="Arial"/>
              </a:rPr>
              <a:t>de Margery Williams, hay una escena que captura la esencia de ser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Real no es como estás hecho” dice el Caballo de Piel, sino que es una cosa que te sucede. No sucede todo de una vez, sino que te vas tornando… Lleva mucho tiempo. Es por eso que no sucede a menudo a las personas que se quiebran fácilmente, o tienen bordes afilados, o que tienen que ser guardadas cuidadosament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0184438-F914-4A43-94BF-50746DB9F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2352600" y="536400"/>
            <a:ext cx="2063880" cy="1548000"/>
          </a:xfrm>
          <a:prstGeom prst="rect">
            <a:avLst/>
          </a:prstGeom>
          <a:ln w="0">
            <a:noFill/>
          </a:ln>
        </p:spPr>
      </p:sp>
      <p:sp>
        <p:nvSpPr>
          <p:cNvPr id="202" name="PlaceHolder 2"/>
          <p:cNvSpPr>
            <a:spLocks noGrp="1"/>
          </p:cNvSpPr>
          <p:nvPr>
            <p:ph type="body"/>
          </p:nvPr>
        </p:nvSpPr>
        <p:spPr>
          <a:xfrm>
            <a:off x="685800" y="2108160"/>
            <a:ext cx="5486400" cy="6291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persona con talento que muestra un interés de corazón a corazón hacia los demás y tiene un liderazgo potencial, puede ser una líder eficaz si se le da las herramientas adecuadas. Sin tener en cuenta su tipo o estilo de personalidad, si son reales y permiten que Dios obre a través de ellos, son capaces de aprender y crecer en el 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cierto, que algunas personas pueden necesitar un poco de ayuda más que otras, pero nadie debe ser descartado.  Para algunos será fácil ascender en el liderazgo; para otros, puede ser más difícil y necesitan que alguien les señale el camino y les ayude a reconocer su potencial. No deberíamos usar de forma egoísta los dones que Dios nos ha dado, para excluir a los demás, sino que debemos elegir servirlo y permitir que su voluntad tome primacía, en cuanto cuidamos y servimos a los demás generosamen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76D7E11-AE0A-4856-823B-03FB79643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017800" y="536400"/>
            <a:ext cx="2444760" cy="1833840"/>
          </a:xfrm>
          <a:prstGeom prst="rect">
            <a:avLst/>
          </a:prstGeom>
          <a:ln w="0">
            <a:noFill/>
          </a:ln>
        </p:spPr>
      </p:sp>
      <p:sp>
        <p:nvSpPr>
          <p:cNvPr id="205" name="PlaceHolder 2"/>
          <p:cNvSpPr>
            <a:spLocks noGrp="1"/>
          </p:cNvSpPr>
          <p:nvPr>
            <p:ph type="body"/>
          </p:nvPr>
        </p:nvSpPr>
        <p:spPr>
          <a:xfrm>
            <a:off x="685800" y="2394000"/>
            <a:ext cx="5486400" cy="600552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cognize</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Each person is given something to do that shows who God is: Everyone gets in on it, everyone benefits. All kinds of things are handed out by the Spirit, and to all kinds of people! The variety is wonderful” </a:t>
            </a:r>
            <a:r>
              <a:rPr b="1" i="1" lang="en-US" sz="1200" spc="-1" strike="noStrike">
                <a:solidFill>
                  <a:srgbClr val="000000"/>
                </a:solidFill>
                <a:latin typeface="Garamond"/>
              </a:rPr>
              <a:t>(</a:t>
            </a:r>
            <a:r>
              <a:rPr b="1" lang="en-US" sz="1200" spc="-1" strike="noStrike">
                <a:solidFill>
                  <a:srgbClr val="000000"/>
                </a:solidFill>
                <a:latin typeface="Garamond"/>
              </a:rPr>
              <a:t>1 Corinthians 12:7, The Message).</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very one has been blessed by God with at least one gift to use for the furtherance of His work.  Many  have been blessed with multiple gifts! Your observation and recognition of potential in others can be the impetus to their taking a step toward leadership.  Make it a goal that you will unearth the potential that is in others. Attentively watch for signs of initiative toward leadership in those you are working with.</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You “recognize” what others are capable of not just by actual observation but also by allowing that person to use their gifts and talents. Be aware of situations where your protégé can enhance his or her leadership experiences, and give ample opportunities of learning experien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3BB6303-2B85-4B46-B76A-B274A5A39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2233440" y="893880"/>
            <a:ext cx="2159280" cy="1619280"/>
          </a:xfrm>
          <a:prstGeom prst="rect">
            <a:avLst/>
          </a:prstGeom>
          <a:ln w="0">
            <a:noFill/>
          </a:ln>
        </p:spPr>
      </p:sp>
      <p:sp>
        <p:nvSpPr>
          <p:cNvPr id="208" name="PlaceHolder 2"/>
          <p:cNvSpPr>
            <a:spLocks noGrp="1"/>
          </p:cNvSpPr>
          <p:nvPr>
            <p:ph type="body"/>
          </p:nvPr>
        </p:nvSpPr>
        <p:spPr>
          <a:xfrm>
            <a:off x="685800" y="2538000"/>
            <a:ext cx="5632560" cy="58611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To those upon whom God has bestowed many talents… Help the inexperienced; discourage them not. Take them into your confidence; give them fatherly counsel…. watch not for their mistakes, but recognize their undeveloped talent, and train them to make a right use of these powers. Instruct them with all patience, encouraging them to go forward and to do an important work. Instead of keeping them engaged in doing things of minor importance, give them an opportunity to obtain an experience by which they may develop into trustworthy workers. Much will thus be gained to the cause of God.” – </a:t>
            </a:r>
            <a:r>
              <a:rPr b="1" i="1" lang="en-US" sz="1200" spc="-1" strike="noStrike">
                <a:solidFill>
                  <a:srgbClr val="000000"/>
                </a:solidFill>
                <a:latin typeface="Garamond"/>
              </a:rPr>
              <a:t>Review and Herald</a:t>
            </a:r>
            <a:r>
              <a:rPr b="1" lang="en-US" sz="1200" spc="-1" strike="noStrike">
                <a:solidFill>
                  <a:srgbClr val="000000"/>
                </a:solidFill>
                <a:latin typeface="Garamond"/>
              </a:rPr>
              <a:t>, June 27, 1912.</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Your experience and your success as a leader are a springboard from which the protégé can leap. Your kind instruction, guidance, decisions, and follow-through as a leader are a model of what is possible for your prospective leader. In all aspects, seek avenues to use the gifts God has given you to bless others and to help them recognize their own unique gifts.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econd Timothy 1:7, The Message says: “God doesn’t want us to be shy with his gifts, but bold and loving and sensi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5160F38-7E35-4932-B7CC-EC54D763D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211480" y="679320"/>
            <a:ext cx="2444760" cy="1833840"/>
          </a:xfrm>
          <a:prstGeom prst="rect">
            <a:avLst/>
          </a:prstGeom>
          <a:ln w="0">
            <a:noFill/>
          </a:ln>
        </p:spPr>
      </p:sp>
      <p:sp>
        <p:nvSpPr>
          <p:cNvPr id="211" name="PlaceHolder 2"/>
          <p:cNvSpPr>
            <a:spLocks noGrp="1"/>
          </p:cNvSpPr>
          <p:nvPr>
            <p:ph type="body"/>
          </p:nvPr>
        </p:nvSpPr>
        <p:spPr>
          <a:xfrm>
            <a:off x="692280" y="2538360"/>
            <a:ext cx="5486400" cy="543240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ncourag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very person needs to be encouraged along life’s path and to know that what  they have done, or are doing. Don’t be stingy with well deserved compliments and words of appreciation.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Remember how it was when you first started out. Inexperience, fear of failure, self-doubt, misperceptions, lack of education and other concerns can be the stumbling blocks that keep potential leaders from developing as they could. Their chance at leadership could be hampered or maybe even curtailed.  Remember how you felt when you first started out as a leader. Were you cautious? Hesitant? Fearful? Did someone encourage you in your journey toward being a good leader? Give honest encouragement that your leader in training has what it takes to be an effective leader.  Look for small attributes that can be developed, not necessarily major ones.  Give sincere, encouraging words. It could be years before there are measurable results, but your comments can mean a lot to someone waver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95E98BA-CDD0-4269-BDB4-FC3546E2A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2286000" y="679320"/>
            <a:ext cx="2287440" cy="1716120"/>
          </a:xfrm>
          <a:prstGeom prst="rect">
            <a:avLst/>
          </a:prstGeom>
          <a:ln w="0">
            <a:noFill/>
          </a:ln>
        </p:spPr>
      </p:sp>
      <p:sp>
        <p:nvSpPr>
          <p:cNvPr id="214" name="PlaceHolder 2"/>
          <p:cNvSpPr>
            <a:spLocks noGrp="1"/>
          </p:cNvSpPr>
          <p:nvPr>
            <p:ph type="body"/>
          </p:nvPr>
        </p:nvSpPr>
        <p:spPr>
          <a:xfrm>
            <a:off x="685800" y="2538000"/>
            <a:ext cx="5486400" cy="5575320"/>
          </a:xfrm>
          <a:prstGeom prst="rect">
            <a:avLst/>
          </a:prstGeom>
          <a:noFill/>
          <a:ln w="0">
            <a:noFill/>
          </a:ln>
        </p:spPr>
        <p:txBody>
          <a:bodyPr lIns="91080" rIns="91080" tIns="45360" bIns="4536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hare these words by Joyce Meyers – in </a:t>
            </a:r>
            <a:r>
              <a:rPr b="0" i="1" lang="en-US" sz="1200" spc="-1" strike="noStrike">
                <a:solidFill>
                  <a:srgbClr val="000000"/>
                </a:solidFill>
                <a:latin typeface="Garamond"/>
              </a:rPr>
              <a:t>Being the Person God Made You to Be,</a:t>
            </a:r>
            <a:r>
              <a:rPr b="0" lang="en-US" sz="1200" spc="-1" strike="noStrike">
                <a:solidFill>
                  <a:srgbClr val="000000"/>
                </a:solidFill>
                <a:latin typeface="Garamond"/>
              </a:rPr>
              <a:t> - with your potential leader</a:t>
            </a:r>
            <a:r>
              <a:rPr b="1" lang="en-US" sz="1200" spc="-1" strike="noStrike">
                <a:solidFill>
                  <a:srgbClr val="000000"/>
                </a:solidFill>
                <a:latin typeface="Garamond"/>
              </a:rPr>
              <a:t>:</a:t>
            </a:r>
            <a:r>
              <a:rPr b="0" lang="en-US" sz="1200" spc="-1" strike="noStrike">
                <a:solidFill>
                  <a:srgbClr val="000000"/>
                </a:solidFill>
                <a:latin typeface="Garamond"/>
              </a:rPr>
              <a:t>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Change in our lives comes as a result of having our minds renewed by the Word of God. As we agree with God and really believe that what He says is true, it gradually begins to manifest itself in us. We begin to think differently, then we begin to talk differently, and finally we begin to act differently. This is a process that develops in stages. Enjoy yourself while you are changing. Enjoy where you are on the way to where you are going. Enjoy the journey!”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ayer is an essential component as you work to guide someone toward leadership and is another form of encouragement. Let your upcoming leader know that you are praying for his or her success. Also, set aside time to pray together for God’s guidance along the way and that his will is done. Claim promises in the Bible to remind you of what God can accomplish in every one of us. Give your concerns to Jesus. The steps to leadership are accomplished in small steps.  Rely on God for your direction and He will help you.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373BE4A-B709-471F-8994-92C7864B5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158920" y="606600"/>
            <a:ext cx="2541600" cy="1906560"/>
          </a:xfrm>
          <a:prstGeom prst="rect">
            <a:avLst/>
          </a:prstGeom>
          <a:ln w="0">
            <a:noFill/>
          </a:ln>
        </p:spPr>
      </p:sp>
      <p:sp>
        <p:nvSpPr>
          <p:cNvPr id="217" name="PlaceHolder 2"/>
          <p:cNvSpPr>
            <a:spLocks noGrp="1"/>
          </p:cNvSpPr>
          <p:nvPr>
            <p:ph type="body"/>
          </p:nvPr>
        </p:nvSpPr>
        <p:spPr>
          <a:xfrm>
            <a:off x="685800" y="2538000"/>
            <a:ext cx="5486400" cy="58611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ppreciat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he next step toward acknowledging another’s potential is to let them know you appreciate their efforts.  William James, psychologist and philosopher, said, “The deepest principle in human nature is the craving to appreciated.” (Brainy Quot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every step along the way, it is essential that you give genuine praise for what the leader-in –training is accomplishing. Look for what is being done right and when you see it, say something immediately. Say exactly what the person did that was good. Let them know how good you feel because of what they have done, how it can benefit others, and encourage them to keep it up.  A little praise can go a long way toward boosting self-esteem or self-confidence and just might give the prospective leader what is needed to not give up. Keep in mind that you don’t have to acknowledge every tiny step but appreciation is an essential part of keeping the spirits up.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re may be times when you need to acknowledge something that is not done right. Be gentle, kind, and compassionate. Don’t criticize, but do point out the most essential things. And never send mixed messages by giving appreciation of good and acknowledgement of the not so good at the same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D3D7F1D-C005-451C-8039-70EBB8B03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996920" y="536400"/>
            <a:ext cx="2635560" cy="1976760"/>
          </a:xfrm>
          <a:prstGeom prst="rect">
            <a:avLst/>
          </a:prstGeom>
          <a:ln w="0">
            <a:noFill/>
          </a:ln>
        </p:spPr>
      </p:sp>
      <p:sp>
        <p:nvSpPr>
          <p:cNvPr id="220" name="PlaceHolder 2"/>
          <p:cNvSpPr>
            <a:spLocks noGrp="1"/>
          </p:cNvSpPr>
          <p:nvPr>
            <p:ph type="body"/>
          </p:nvPr>
        </p:nvSpPr>
        <p:spPr>
          <a:xfrm>
            <a:off x="685800" y="2610000"/>
            <a:ext cx="5486400" cy="52178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s you mentor and lead, let words of praise flow from your lips so that those you are ministering to or serving can feel comfortable knowing that at every stage along the way to leadership they are growing.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t is difficult for some of us to give praise where it is due. To help you, use the </a:t>
            </a:r>
            <a:r>
              <a:rPr b="1" lang="en-US" sz="1200" spc="-1" strike="noStrike" u="sng">
                <a:solidFill>
                  <a:srgbClr val="000000"/>
                </a:solidFill>
                <a:uFillTx/>
                <a:latin typeface="Garamond"/>
              </a:rPr>
              <a:t>Handout #4: “Praise Phase Possibilities”</a:t>
            </a:r>
            <a:r>
              <a:rPr b="0" lang="en-US" sz="1200" spc="-1" strike="noStrike" u="sng">
                <a:solidFill>
                  <a:srgbClr val="000000"/>
                </a:solidFill>
                <a:uFillTx/>
                <a:latin typeface="Garamond"/>
              </a:rPr>
              <a:t> </a:t>
            </a:r>
            <a:r>
              <a:rPr b="0" lang="en-US" sz="1200" spc="-1" strike="noStrike">
                <a:solidFill>
                  <a:srgbClr val="000000"/>
                </a:solidFill>
                <a:latin typeface="Garamond"/>
              </a:rPr>
              <a:t>to learn to acknowledge what others are doing right. You can read this when you go home and rephrase the suggestions to your style of talking.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C2A53A9-1C17-4884-9440-51F6DB539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143080" y="536400"/>
            <a:ext cx="2349720" cy="1762200"/>
          </a:xfrm>
          <a:prstGeom prst="rect">
            <a:avLst/>
          </a:prstGeom>
          <a:ln w="0">
            <a:noFill/>
          </a:ln>
        </p:spPr>
      </p:sp>
      <p:sp>
        <p:nvSpPr>
          <p:cNvPr id="223" name="PlaceHolder 2"/>
          <p:cNvSpPr>
            <a:spLocks noGrp="1"/>
          </p:cNvSpPr>
          <p:nvPr>
            <p:ph type="body"/>
          </p:nvPr>
        </p:nvSpPr>
        <p:spPr>
          <a:xfrm>
            <a:off x="685800" y="2323800"/>
            <a:ext cx="5486400" cy="53607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If in their ministry those whom we teach develop an energy and an intelligence even superior to that which we possess, we should be led to rejoice over the privilege of having a part in the work of training them.” Review and Herald, Dec. 1, 1904.</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7A2C47B-FC2C-4C15-82D2-5B580F7FD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2212920" y="249120"/>
            <a:ext cx="2444760" cy="1833840"/>
          </a:xfrm>
          <a:prstGeom prst="rect">
            <a:avLst/>
          </a:prstGeom>
          <a:ln w="0">
            <a:noFill/>
          </a:ln>
        </p:spPr>
      </p:sp>
      <p:sp>
        <p:nvSpPr>
          <p:cNvPr id="226" name="PlaceHolder 2"/>
          <p:cNvSpPr>
            <a:spLocks noGrp="1"/>
          </p:cNvSpPr>
          <p:nvPr>
            <p:ph type="body"/>
          </p:nvPr>
        </p:nvSpPr>
        <p:spPr>
          <a:xfrm>
            <a:off x="685440" y="1967040"/>
            <a:ext cx="5767560" cy="550224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rai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this series there are other seminars that will give you more specifics on how to give proper training so we are not going to delve too deeply in to this area. Keep in mind some of the following things that were gleaned from different leaders: (Pick som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Keep it simpl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Be personal; work one on one </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Establish eye contact</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Be tolerant</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Develop a bond with the protégé  </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Relinquish control</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Listen to your upcoming leader and don’t think you have all the answer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Be attentiv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Make certain the learning atmosphere is inviting – warm – affirming</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Support involvement by the protégé. Experience IS the best teacher.</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Be availabl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Set some common goals</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Have a shared vision and stay on track</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Take time to understand the personality of the person you will be working with. It can make all the difference in the world.</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Avoid being overprotectiv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Curtail ‘instructing’</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Avoid parental gestures and scowls</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Allow creativity and differences of opinion</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Don’t try to know it all (or try to act like you do)</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Strive for excellenc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Don’t manipulat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Don’t expect a clon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Reflect Chri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14530F0-4B1B-4EEE-B683-7381239C9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2217600" y="536400"/>
            <a:ext cx="2351160" cy="1764000"/>
          </a:xfrm>
          <a:prstGeom prst="rect">
            <a:avLst/>
          </a:prstGeom>
          <a:ln w="0">
            <a:noFill/>
          </a:ln>
        </p:spPr>
      </p:sp>
      <p:sp>
        <p:nvSpPr>
          <p:cNvPr id="175" name="PlaceHolder 2"/>
          <p:cNvSpPr>
            <a:spLocks noGrp="1"/>
          </p:cNvSpPr>
          <p:nvPr>
            <p:ph type="body"/>
          </p:nvPr>
        </p:nvSpPr>
        <p:spPr>
          <a:xfrm>
            <a:off x="685440" y="2325240"/>
            <a:ext cx="5767560" cy="5861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iderando y orient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es liderazgo? Según el diccionario enciclopédico Wikipedia: “Es un proceso de influir en otras personas y de incentivarlas para que trabajen en forma entusiasta por un objetivo común. Se entiende también como la capacidad de inspirar a otros, de soñar y convertir sus sueños en realidad, de generar pasión y energía en todo lo que hacen y transmitirla a las personas que les rod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mos algunos sinónimos que describen la palabra liderazgo: guía, mentor, consejero, tutor, asesor, monitor, supervisor, entrenador, ordenador, maestro, profesor, director, dirigente, rector, dirigente, cabecilla, gobernador, adalid, paladí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sorprenden algunas palabras listadas? (Dé tiempo para algunas respuest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808FE43-710D-421A-9D48-4DA2E1DBB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282760" y="320760"/>
            <a:ext cx="2446560" cy="1834920"/>
          </a:xfrm>
          <a:prstGeom prst="rect">
            <a:avLst/>
          </a:prstGeom>
          <a:ln w="0">
            <a:noFill/>
          </a:ln>
        </p:spPr>
      </p:sp>
      <p:sp>
        <p:nvSpPr>
          <p:cNvPr id="229" name="PlaceHolder 2"/>
          <p:cNvSpPr>
            <a:spLocks noGrp="1"/>
          </p:cNvSpPr>
          <p:nvPr>
            <p:ph type="body"/>
          </p:nvPr>
        </p:nvSpPr>
        <p:spPr>
          <a:xfrm>
            <a:off x="685800" y="2179440"/>
            <a:ext cx="5486400" cy="55767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on’t try to follow a manual or have stringent guidelines. Trust God and keep open to the possibilities around you. The training you give is an investment that can pay big dividends as you see the budding leader build in confidence and experience. And the interdependence you share in the process will be a joy for both of you.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words of George S. Patton are quite apropos as we consider training others:  “Never tell people how to do things. Tell them what to do and they will surprise you with ingenuity.”  This thought can help leaders not to get bogged down with logistics. When we are in harmony with God’s will, things will be as they should. (Brainy Quot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n area that is vitally important for the trainee is the area of working with others, that is, developing their people skills. One of the discouragements of being a leader is the stress of working with people of varying dispositions and opinions. But, God made us to complement each other and although it may take a while to be on one accord, it can be done.  This is a point that you would be wise to emphasize from time to time and kindly give guidance as needed.</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your packet there is a fun reading, but there’s truth in it. </a:t>
            </a:r>
            <a:r>
              <a:rPr b="1" lang="en-US" sz="1200" spc="-1" strike="noStrike" u="sng">
                <a:solidFill>
                  <a:srgbClr val="000000"/>
                </a:solidFill>
                <a:uFillTx/>
                <a:latin typeface="Garamond"/>
              </a:rPr>
              <a:t>Take out Handout #5: “Tater People”.</a:t>
            </a:r>
            <a:r>
              <a:rPr b="0" lang="en-US" sz="1200" spc="-1" strike="noStrike">
                <a:solidFill>
                  <a:srgbClr val="000000"/>
                </a:solidFill>
                <a:latin typeface="Garamond"/>
              </a:rPr>
              <a:t> Facilitator, read aloud from the handout for the class or allow participants to read the segments.]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 we end this particular topic—</a:t>
            </a:r>
            <a:r>
              <a:rPr b="1" lang="en-US" sz="1200" spc="-1" strike="noStrike">
                <a:solidFill>
                  <a:srgbClr val="000000"/>
                </a:solidFill>
                <a:latin typeface="Garamond"/>
              </a:rPr>
              <a:t>T</a:t>
            </a:r>
            <a:r>
              <a:rPr b="0" lang="en-US" sz="1200" spc="-1" strike="noStrike">
                <a:solidFill>
                  <a:srgbClr val="000000"/>
                </a:solidFill>
                <a:latin typeface="Garamond"/>
              </a:rPr>
              <a:t>rain—remember to trust God to lead and guide you in the best ways to accomplish this so that His name is glorified. The time is imminent that you will completely entrust your potential leader with every task. Get ready to point the way, then, get out of the way, and because a new leader is emerging!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3A5AC70-02A4-4B62-9065-0F680B734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2212920" y="465120"/>
            <a:ext cx="2481480" cy="1860480"/>
          </a:xfrm>
          <a:prstGeom prst="rect">
            <a:avLst/>
          </a:prstGeom>
          <a:ln w="0">
            <a:noFill/>
          </a:ln>
        </p:spPr>
      </p:sp>
      <p:sp>
        <p:nvSpPr>
          <p:cNvPr id="232" name="PlaceHolder 2"/>
          <p:cNvSpPr>
            <a:spLocks noGrp="1"/>
          </p:cNvSpPr>
          <p:nvPr>
            <p:ph type="body"/>
          </p:nvPr>
        </p:nvSpPr>
        <p:spPr>
          <a:xfrm>
            <a:off x="685440" y="2179440"/>
            <a:ext cx="5767560" cy="586260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ntrus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 a train was about to leave a large railroad station, the conductor began to take tickets. Looking at the ticket of the first passenger, he remarked, "Friend, I think you're on the wrong train!" "But," replied the man, "the ticket agent told me this was my train." After a little discussion, the conductor decided to check with the ticket agent. Before long, it became clear that the conductor was on the wrong train! When the leader is lost, how can the followers be going on the right track? Source Unknown.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e sure that in your partnership with your potential leader you are on the right track!  Stay in tune with God so you know what to do and when. With God in control, your prospective leader can begin to spread his/her wings and test out the new skills. But your caring, recognizing, encouraging, appreciating, and training helps lay the groundwork.</a:t>
            </a:r>
            <a:r>
              <a:rPr b="0" lang="en-US" sz="1200" spc="-1" strike="noStrike">
                <a:solidFill>
                  <a:srgbClr val="000000"/>
                </a:solidFill>
                <a:latin typeface="Garamond"/>
              </a:rPr>
              <a:t> If you have conscientiously done what you can to help create a potential leader bloom and grow, be ready now to empower that person by entrusting them to do the job.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hare with them, Ephesians 4: 1-3, “My blessing (praise, laudation, and eulogy) be to the God and Father of our Lord Jesus Christ (The Messiah), Who has blessed us in Christ with every spiritual (given by the Holy Spirit) blessing in the heavenly realm” (Amplified Bible).  Give them the go-ahead to use their talents, gifts, knowledge, and new skills by stepping aside at appropriate intervals and encouraging them to carry on. The time has come. It wasn’t about you, anyway, it was about them—their achievements, their success and achieving what God purposed for them.  As a reminder of what God has called each of us to do, you can review </a:t>
            </a:r>
            <a:r>
              <a:rPr b="1" lang="en-US" sz="1200" spc="-1" strike="noStrike" u="sng">
                <a:solidFill>
                  <a:srgbClr val="000000"/>
                </a:solidFill>
                <a:uFillTx/>
                <a:latin typeface="Garamond"/>
              </a:rPr>
              <a:t>Handout #6, Spiritual Quotes </a:t>
            </a:r>
            <a:r>
              <a:rPr b="1" lang="en-US" sz="1200" spc="-1" strike="noStrike">
                <a:solidFill>
                  <a:srgbClr val="000000"/>
                </a:solidFill>
                <a:latin typeface="Garamond"/>
              </a:rPr>
              <a:t>after this seminar</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as anyone ever seen a baby bird learn to fly? It’s quite interesting. When the mother or father thinks it’s time and the bird is reluctant or struggling with what to do, one or the other of them might push the baby out of the nest. And if it’s lucky it will begin to flutter its wings. If not so lucky, it falls to the ground. But it is not abandoned  because the mother or father will swoop to the ground and chirp and cheep at the bird.  Almost an encouragement, you could say. But the parent is also there to ward off predators. It may take a while but the bird will eventually take flight. We can learn from birds and trust in the abilities of our protégé, give a gentle nudge if needed, stay close, give encouragement, be ready to assist if needed (and asked), and ward off critics and nay-sayer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6D7EA4D-B9B1-455A-8942-46FAABD53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2212920" y="320760"/>
            <a:ext cx="2637000" cy="1977840"/>
          </a:xfrm>
          <a:prstGeom prst="rect">
            <a:avLst/>
          </a:prstGeom>
          <a:ln w="0">
            <a:noFill/>
          </a:ln>
        </p:spPr>
      </p:sp>
      <p:sp>
        <p:nvSpPr>
          <p:cNvPr id="235" name="PlaceHolder 2"/>
          <p:cNvSpPr>
            <a:spLocks noGrp="1"/>
          </p:cNvSpPr>
          <p:nvPr>
            <p:ph type="body"/>
          </p:nvPr>
        </p:nvSpPr>
        <p:spPr>
          <a:xfrm>
            <a:off x="685800" y="2394000"/>
            <a:ext cx="5486400" cy="600552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One of the biggest problems numerous leaders have is not letting go after the training is complete and allowing the leader-in-training to lead. There are various reasons why: selfishness, fear of loss of power, jealousy, insecurity, etc. As we recall that God has placed each of us here for a purpose, let that remind us to allow him to work out his purpose in others and not selfishly try to hog control, recognition, accolades, or pow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DA40B11-73B7-4399-AA06-7FB776219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2212920" y="465120"/>
            <a:ext cx="2351160" cy="1763640"/>
          </a:xfrm>
          <a:prstGeom prst="rect">
            <a:avLst/>
          </a:prstGeom>
          <a:ln w="0">
            <a:noFill/>
          </a:ln>
        </p:spPr>
      </p:sp>
      <p:sp>
        <p:nvSpPr>
          <p:cNvPr id="238" name="PlaceHolder 2"/>
          <p:cNvSpPr>
            <a:spLocks noGrp="1"/>
          </p:cNvSpPr>
          <p:nvPr>
            <p:ph type="body"/>
          </p:nvPr>
        </p:nvSpPr>
        <p:spPr>
          <a:xfrm>
            <a:off x="685800" y="2393640"/>
            <a:ext cx="5695920" cy="5861160"/>
          </a:xfrm>
          <a:prstGeom prst="rect">
            <a:avLst/>
          </a:prstGeom>
          <a:noFill/>
          <a:ln w="0">
            <a:noFill/>
          </a:ln>
        </p:spPr>
        <p:txBody>
          <a:bodyPr lIns="91080" rIns="91080" tIns="45360" bIns="4536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llen White in Testimonies to Ministers and Gospel Worker, says “The height man [woman] may reach by proper culture has not hitherto been realized…. If their capabilities were brought into use, we should have twenty ministers [leaders] where we now have one” (p. 195)</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You have worked hard; now relax and reflect, recognize the growth that has been achieved, and let go. It’s time to entrust the work to someone else and share the joy of this new experience together.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Keep Growing</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Garamond"/>
              </a:rPr>
              <a:t>Class Discussion:  </a:t>
            </a:r>
            <a:r>
              <a:rPr b="1" lang="en-US" sz="1200" spc="-1" strike="noStrike" u="sng">
                <a:solidFill>
                  <a:srgbClr val="000000"/>
                </a:solidFill>
                <a:uFillTx/>
                <a:latin typeface="Garamond"/>
              </a:rPr>
              <a:t>Take out Handout # 7 “There I Grow Again</a:t>
            </a:r>
            <a:r>
              <a:rPr b="0" lang="en-US" sz="1200" spc="-1" strike="noStrike">
                <a:solidFill>
                  <a:srgbClr val="000000"/>
                </a:solidFill>
                <a:latin typeface="Garamond"/>
              </a:rPr>
              <a:t>. [Facilitator, read this to the participants and ask for some thoughts on it.]</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closing, there will be new life breathed into someone’s soul as day by day you </a:t>
            </a:r>
            <a:r>
              <a:rPr b="1" lang="en-US" sz="1200" spc="-1" strike="noStrike">
                <a:solidFill>
                  <a:srgbClr val="000000"/>
                </a:solidFill>
                <a:latin typeface="Garamond"/>
              </a:rPr>
              <a:t>c-r-e-a-t-e.</a:t>
            </a:r>
            <a:r>
              <a:rPr b="0" lang="en-US" sz="1200" spc="-1" strike="noStrike">
                <a:solidFill>
                  <a:srgbClr val="000000"/>
                </a:solidFill>
                <a:latin typeface="Garamond"/>
              </a:rPr>
              <a:t> Helping a person grow creates a potential leader.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0406E22-5236-4F9D-BC6B-94172A29A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211480" y="392040"/>
            <a:ext cx="2446200" cy="1835280"/>
          </a:xfrm>
          <a:prstGeom prst="rect">
            <a:avLst/>
          </a:prstGeom>
          <a:ln w="0">
            <a:noFill/>
          </a:ln>
        </p:spPr>
      </p:sp>
      <p:sp>
        <p:nvSpPr>
          <p:cNvPr id="241" name="PlaceHolder 2"/>
          <p:cNvSpPr>
            <a:spLocks noGrp="1"/>
          </p:cNvSpPr>
          <p:nvPr>
            <p:ph type="body"/>
          </p:nvPr>
        </p:nvSpPr>
        <p:spPr>
          <a:xfrm>
            <a:off x="685440" y="2393640"/>
            <a:ext cx="5767560" cy="58611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John Maxwell, a well known writer in the area of leadership wrote: “Leadership in any organization - whether in the local church or in some other Christian activity - is never just a job. It is always a way of life, demanding from those who would be leaders a 24-hour-a-day commitmen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leader, in a sense, must always be on the job, deciding, directing and developing the work that has been entrusted to him while at the same time encouraging those in the work. A leader is one who knows the way, goes the way and shows the way.”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Your job is now done! But do quietly check back periodically to see how things are progressing and continue to affirm the work being done by the new leader.</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hat’s next for you? Life didn’t stop (or shouldn’t have) because you were a leader or mentor! Revisit some of the goals that you might have put aside. Keep striving—onward and upward. But spend time assessing how you have changed and what you yourself have learned before you develop a new ministry, revisit a previous one, or seek to work with another potential leader. In your packet you’ll find </a:t>
            </a:r>
            <a:r>
              <a:rPr b="1" lang="en-US" sz="1200" spc="-1" strike="noStrike" u="sng">
                <a:solidFill>
                  <a:srgbClr val="000000"/>
                </a:solidFill>
                <a:uFillTx/>
                <a:latin typeface="Garamond"/>
              </a:rPr>
              <a:t>Handout#8, “Quotes to Inspire You,</a:t>
            </a:r>
            <a:r>
              <a:rPr b="0" lang="en-US" sz="1200" spc="-1" strike="noStrike" u="sng">
                <a:solidFill>
                  <a:srgbClr val="000000"/>
                </a:solidFill>
                <a:uFillTx/>
                <a:latin typeface="Garamond"/>
              </a:rPr>
              <a:t>”</a:t>
            </a:r>
            <a:r>
              <a:rPr b="0" lang="en-US" sz="1200" spc="-1" strike="noStrike">
                <a:solidFill>
                  <a:srgbClr val="000000"/>
                </a:solidFill>
                <a:latin typeface="Garamond"/>
              </a:rPr>
              <a:t> to read at your leisure. The quotes can boost your spirits and be an inspiration as you continue to help others use their God-given potential in ministry at home, in the community, and in the church.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 we close our seminar today, I’d like to have 10 volunteers read one of the “beatitudes” in </a:t>
            </a:r>
            <a:r>
              <a:rPr b="1" lang="en-US" sz="1200" spc="-1" strike="noStrike" u="sng">
                <a:solidFill>
                  <a:srgbClr val="000000"/>
                </a:solidFill>
                <a:uFillTx/>
                <a:latin typeface="Garamond"/>
              </a:rPr>
              <a:t>Handout #9: “ Beatitudes of a Leader”</a:t>
            </a:r>
            <a:r>
              <a:rPr b="1" lang="en-US" sz="1200" spc="-1" strike="noStrike">
                <a:solidFill>
                  <a:srgbClr val="000000"/>
                </a:solidFill>
                <a:latin typeface="Garamond"/>
              </a:rPr>
              <a:t>.</a:t>
            </a:r>
            <a:r>
              <a:rPr b="0" lang="en-US" sz="1200" spc="-1" strike="noStrike">
                <a:solidFill>
                  <a:srgbClr val="000000"/>
                </a:solidFill>
                <a:latin typeface="Garamond"/>
              </a:rPr>
              <a:t> Please speak loudly and clearly.  [Facilitator, you may opt to read this handout yourself. If time allows, give participants a few minutes to share their thought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God bless you as stand in the right place at the right time and make a difference in someone else’s life. I hope that this seminar has given you ideas on how to bring out the best, and create a potential leader.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37F277A-7BC7-42F6-BE5A-370B437EC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2211480" y="392040"/>
            <a:ext cx="2255760" cy="1692360"/>
          </a:xfrm>
          <a:prstGeom prst="rect">
            <a:avLst/>
          </a:prstGeom>
          <a:ln w="0">
            <a:noFill/>
          </a:ln>
        </p:spPr>
      </p:sp>
      <p:sp>
        <p:nvSpPr>
          <p:cNvPr id="178" name="PlaceHolder 2"/>
          <p:cNvSpPr>
            <a:spLocks noGrp="1"/>
          </p:cNvSpPr>
          <p:nvPr>
            <p:ph type="body"/>
          </p:nvPr>
        </p:nvSpPr>
        <p:spPr>
          <a:xfrm>
            <a:off x="685800" y="2107800"/>
            <a:ext cx="5486400" cy="6077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cristianas y discípulas de Jesús, estamos llamadas a usar nuestros dones, conocimiento y habilidades para ayudar a otros a alcanzar la plenitud de Cristo y luego encomendarnos a Dios para utilizar nuestra influencia de liderazgo y poder para b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a Peter Drucker, liderazgo “es levantar la visión de una persona a niveles de interés más altos, la edificación de una personalidad más allá de sus limitaciones normales” (Administración Sch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Tiempo de reflexión: Reflexión individual – Ejercicio en 3 par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favor consiga el </a:t>
            </a:r>
            <a:r>
              <a:rPr b="0" lang="es-ES" sz="1200" spc="-1" strike="noStrike" u="sng">
                <a:solidFill>
                  <a:srgbClr val="000000"/>
                </a:solidFill>
                <a:uFillTx/>
                <a:latin typeface="Arial"/>
              </a:rPr>
              <a:t>Impreso # 1 “Reflexión individual</a:t>
            </a:r>
            <a:r>
              <a:rPr b="0" lang="es-ES" sz="1200" spc="-1" strike="noStrike">
                <a:solidFill>
                  <a:srgbClr val="000000"/>
                </a:solidFill>
                <a:latin typeface="Arial"/>
              </a:rPr>
              <a:t>”. Lea y responda apropiadamente las preguntas. (Permita un tiempo de 5 minu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zás usted nunca lo habría pensado antes, pero el tipo de líder y el estilo de liderazgo que usted aprueba o desaprueba, probablemente fue influenciado en gran medida por las personas que usted consideraba en su reflexión individual (por supuesto no incluyéndose usted mismo). Quizás el impacto que esos líderes tuvieron en usted fue una gran motivación en su deseo de llegar a ser una líder. ¿Alguno de ustedes consideró los atributos que vio en esos líderes, como unos que usted quiere (o no quiere) tener? (Permita tiempo para una o dos respuestas). En esta reflexión podemos ver que los líderes pueden afectar a los demás de manera positiva o neg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jemos brevemente a un lado las hojas de reflexión, mientras hablamos sobre tutoría, porque en las diversas formas de liderazgo, la experiencia de tutoría está estrechamente ligada. ¿Quién es un mentor? El diccionario Wikipedia dice: es un “consejero y guía”. Esta definición en sí, trae a luz los aspectos más importantes que una persona completa en la vida de alguien más, cuando se toma este papel. Como líderes, con frecuencia somos llamadas a no solamente dirigir un grupo, sino a aconsejar a una o más personas. Chip R. Bell dice, “Un mentor es un facilitador o catalizador en el proceso del descubrimiento y conocimiento. La tutoría se puede hacer formal o informal, pero en cualquier caso, el mentor es un modelo a seguir que trabaja en una relación uno a uno – alguien con experiencia (Mentor) conectado y comprometido con el desarrollo de una persona no experimentada (protegido o aprendiz).</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B8A2818-9FE3-4355-AF2C-159B6D3D63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2208240" y="465120"/>
            <a:ext cx="2351160" cy="1763640"/>
          </a:xfrm>
          <a:prstGeom prst="rect">
            <a:avLst/>
          </a:prstGeom>
          <a:ln w="0">
            <a:noFill/>
          </a:ln>
        </p:spPr>
      </p:sp>
      <p:sp>
        <p:nvSpPr>
          <p:cNvPr id="181" name="PlaceHolder 2"/>
          <p:cNvSpPr>
            <a:spLocks noGrp="1"/>
          </p:cNvSpPr>
          <p:nvPr>
            <p:ph type="body"/>
          </p:nvPr>
        </p:nvSpPr>
        <p:spPr>
          <a:xfrm>
            <a:off x="685800" y="2324160"/>
            <a:ext cx="5486400" cy="6075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ichard Tyre describe a la tutoría simplemente como “un cerebro para elegir, una oreja para escuchar, y un empujón en la dirección correc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ener el derecho a los atributos como una líder, significa que usted tendrá éxito como una mentor? Posiblemente, pero hay mucho más involucrado en conseguir y mantener una relación de tutoría y cuidado. Esto también conlleva compromiso, tiempo, enseñanza, et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8C61759-62B2-459D-8A7D-D8D5E319B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2355840" y="320760"/>
            <a:ext cx="2160720" cy="1620720"/>
          </a:xfrm>
          <a:prstGeom prst="rect">
            <a:avLst/>
          </a:prstGeom>
          <a:ln w="0">
            <a:noFill/>
          </a:ln>
        </p:spPr>
      </p:sp>
      <p:sp>
        <p:nvSpPr>
          <p:cNvPr id="184" name="PlaceHolder 2"/>
          <p:cNvSpPr>
            <a:spLocks noGrp="1"/>
          </p:cNvSpPr>
          <p:nvPr>
            <p:ph type="body"/>
          </p:nvPr>
        </p:nvSpPr>
        <p:spPr>
          <a:xfrm>
            <a:off x="685800" y="1966680"/>
            <a:ext cx="5695920" cy="62182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o largo de este seminario presentaremos los siguientes vocablos que nos harán pensar más seriamente sobre cómo formar un líder pote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IDADO – RECONOCER – ESTIMULAR – APRECIAR – CAPACITAR – CONF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Vuelva al Impreso # 1, “Reflexión Individual”</a:t>
            </a:r>
            <a:r>
              <a:rPr b="0" lang="es-ES" sz="1200" spc="-1" strike="noStrike">
                <a:solidFill>
                  <a:srgbClr val="000000"/>
                </a:solidFill>
                <a:latin typeface="Arial"/>
              </a:rPr>
              <a:t>. Use los vocablos arriba mencionados como un punto de referencia y escriba la tarea solicitada en 75 palabras o menos (Permita, cinco minutos, luego pida que las participantes regresen a la cl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ha tenido tiempo para pensar de cómo puede hacer una diferencia cuando trabaja con una líder potencial. Su declaración puede servir de guía en cómo comenzar a entrenar a otros. Mantenga una cosa en mente, sin embargo, antes de comenzar, no obligue a nadie al liderazgo. Esto debe ser la elección de ellas – algo que estén interesadas en seguir y donde sientan que Dios puede usarlas. No diga que usted no puede convencer o incentivar y ser el paso previo a la formación de un líder potencial, pero recuerde que debe dejar que la persona elija cómo quiere aprender y c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erbios 9:9, dice: </a:t>
            </a:r>
            <a:r>
              <a:rPr b="0" i="1" lang="es-ES" sz="1200" spc="-1" strike="noStrike">
                <a:solidFill>
                  <a:srgbClr val="000000"/>
                </a:solidFill>
                <a:latin typeface="Arial"/>
              </a:rPr>
              <a:t>“Instruye al sabio, y se hará más sabio; enseña al justo, y aumentará su saber”.</a:t>
            </a:r>
            <a:r>
              <a:rPr b="0" i="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Entrevista: Compartiendo – Una historia de liderazgo</a:t>
            </a:r>
            <a:r>
              <a:rPr b="0" lang="es-ES" sz="1200" spc="-1" strike="noStrike">
                <a:solidFill>
                  <a:srgbClr val="000000"/>
                </a:solidFill>
                <a:latin typeface="Arial"/>
              </a:rPr>
              <a:t>. (Antes del seminario, seleccione a una de las participantes para entrevistarla sobre cómo fue admitida en el liderazgo. Determine de ante mano unas pocas preguntas que le gustaría que ella responda y comparta esta información con la líder designada para que pueda saber de antemano cómo va a respo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____________________ compartirá con nosotros, cómo ella llegó a ser una líder (Dé tres minut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5DE3C3E-6EED-422E-9B8A-8032D3571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279520" y="465120"/>
            <a:ext cx="2351160" cy="1763640"/>
          </a:xfrm>
          <a:prstGeom prst="rect">
            <a:avLst/>
          </a:prstGeom>
          <a:ln w="0">
            <a:noFill/>
          </a:ln>
        </p:spPr>
      </p:sp>
      <p:sp>
        <p:nvSpPr>
          <p:cNvPr id="187" name="PlaceHolder 2"/>
          <p:cNvSpPr>
            <a:spLocks noGrp="1"/>
          </p:cNvSpPr>
          <p:nvPr>
            <p:ph type="body"/>
          </p:nvPr>
        </p:nvSpPr>
        <p:spPr>
          <a:xfrm>
            <a:off x="685800" y="2324160"/>
            <a:ext cx="5702400" cy="6075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fesios 1:11,12, nos recuerda que “Es en Cristo que nosotros encontramos quiénes somos y para qué estamos viviendo. Mucho antes que escucháramos de Cristo y tuviéramos esperanza, él ya tenía sus ojos puestos en nosotros, ya nos había designado para una vida gloriosa como parte del propósito general que está obrando en todo y para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nos preguntáramos qué hace una buena líder, no dudamos que todos tendríamos diferentes respuestas. Tomaremos unos minutos en este momento para comentar cuales son algunas de las cualidades positivas que le gustaría ver en una líder y por qué. (La instructora puede solicitar una respuesta de cada participante que está alrededor del salón; añada unas cuantas palabras adicionales si usted desea. Escriba las respuestas en una pizarra si así lo prefi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2FC4F76-2A23-4518-9482-A6F2BB0DF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2212920" y="392040"/>
            <a:ext cx="2576520" cy="1932120"/>
          </a:xfrm>
          <a:prstGeom prst="rect">
            <a:avLst/>
          </a:prstGeom>
          <a:ln w="0">
            <a:noFill/>
          </a:ln>
        </p:spPr>
      </p:sp>
      <p:sp>
        <p:nvSpPr>
          <p:cNvPr id="190" name="PlaceHolder 2"/>
          <p:cNvSpPr>
            <a:spLocks noGrp="1"/>
          </p:cNvSpPr>
          <p:nvPr>
            <p:ph type="body"/>
          </p:nvPr>
        </p:nvSpPr>
        <p:spPr>
          <a:xfrm>
            <a:off x="685800" y="2393640"/>
            <a:ext cx="5486400" cy="528948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en mente que aunque las cualidades positivas son grandiosas, lo que somos, es mucho más importante que lo que decimos que somos. Ser una líder eficaz significa que el equipo para el cual trabajamos, confía en nosotros, o quiere seguir nuestros pasos. Una cita de Donald Clark dice, “Son los seguidores, y no el líder, quién determina si un líder es fabuloso” (</a:t>
            </a:r>
            <a:r>
              <a:rPr b="0" i="1" lang="es-ES" sz="1200" spc="-1" strike="noStrike">
                <a:solidFill>
                  <a:srgbClr val="000000"/>
                </a:solidFill>
                <a:latin typeface="Arial"/>
              </a:rPr>
              <a:t>El arte y la ciencia del liderazgo,</a:t>
            </a:r>
            <a:r>
              <a:rPr b="0" lang="es-ES" sz="1200" spc="-1" strike="noStrike">
                <a:solidFill>
                  <a:srgbClr val="000000"/>
                </a:solidFill>
                <a:latin typeface="Arial"/>
              </a:rPr>
              <a:t> 1997).</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uede tener éxito en su primera enseñanza al reconocer las capacidades y talentos en los demás. Después de esto, hay que estar listos y dispuestos a guiarlos gentilmente y permitir que ellos crezcan. Puede ser una experiencia emocionante (y aterradora) presentar líderes potenciales a un mundo que no los habían conocido antes; ayudándoles a comprender quiénes son y donde están en la vida. Usted tendrá que comprometerse a gastar tiempo para ayudarlos a formar su futuro – sus planes, metas y visión – así ellos puedan ser lo que Dios quiere que sean. Este es un deber como un líder y discípulo de Cristo y puede traerle recompensas que sólo en la eternidad se revelarán plename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007326A-E431-40A8-92AD-BF9CB8A4C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085840" y="465120"/>
            <a:ext cx="2540160" cy="1905120"/>
          </a:xfrm>
          <a:prstGeom prst="rect">
            <a:avLst/>
          </a:prstGeom>
          <a:ln w="0">
            <a:noFill/>
          </a:ln>
        </p:spPr>
      </p:sp>
      <p:sp>
        <p:nvSpPr>
          <p:cNvPr id="193" name="PlaceHolder 2"/>
          <p:cNvSpPr>
            <a:spLocks noGrp="1"/>
          </p:cNvSpPr>
          <p:nvPr>
            <p:ph type="body"/>
          </p:nvPr>
        </p:nvSpPr>
        <p:spPr>
          <a:xfrm>
            <a:off x="685800" y="2467080"/>
            <a:ext cx="5486400" cy="5789520"/>
          </a:xfrm>
          <a:prstGeom prst="rect">
            <a:avLst/>
          </a:prstGeom>
          <a:noFill/>
          <a:ln w="0">
            <a:noFill/>
          </a:ln>
        </p:spPr>
        <p:txBody>
          <a:bodyPr lIns="91080" rIns="91080" tIns="45360" bIns="4536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mos recordar siempre que “Cada mayordomo tiene su propia obra específica que debe hacer para promover el reino de Dios. A nadie se excusa. El Señor nos pide a todos: ‘Negociad entre tanto que vengo’. Desde su propia sabiduría nos ha dado instrucciones para el empleo de sus dones. Los talentos del habla, la memoria, la influencia, las propiedades, deben amontonarse para la gloria de Dios y la promoción de su reino. El bendecirá el uso debido de esos dones” </a:t>
            </a:r>
            <a:r>
              <a:rPr b="1" i="1" lang="es-ES" sz="1200" spc="-1" strike="noStrike">
                <a:solidFill>
                  <a:srgbClr val="000000"/>
                </a:solidFill>
                <a:latin typeface="Arial"/>
              </a:rPr>
              <a:t>(Consejos sobre Mayordomía Cristiana, </a:t>
            </a:r>
            <a:r>
              <a:rPr b="1" lang="es-ES" sz="1200" spc="-1" strike="noStrike">
                <a:solidFill>
                  <a:srgbClr val="000000"/>
                </a:solidFill>
                <a:latin typeface="Arial"/>
              </a:rPr>
              <a:t>p. 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a gracia de Dios, muchos de nosotros, usando nuestros dones colectivos impactaremos en nuestro mundo para siempre. Pero todo comienza trabajando juntos. Todos probablemente hemos oído la historia de los gansos y su gran trabajo en equipo. Tenga a mano la “</a:t>
            </a:r>
            <a:r>
              <a:rPr b="0" lang="es-ES" sz="1200" spc="-1" strike="noStrike" u="sng">
                <a:solidFill>
                  <a:srgbClr val="000000"/>
                </a:solidFill>
                <a:uFillTx/>
                <a:latin typeface="Arial"/>
              </a:rPr>
              <a:t>Historia de los gansos” Impreso # 2 y léalo</a:t>
            </a:r>
            <a:r>
              <a:rPr b="0" lang="es-ES" sz="1200" spc="-1" strike="noStrike">
                <a:solidFill>
                  <a:srgbClr val="000000"/>
                </a:solidFill>
                <a:latin typeface="Arial"/>
              </a:rPr>
              <a:t>.  Luego, esté lista a dar algunas respuestas en su grupo sobre lo que podemos aprender de los gansos. Cada grupo compartirá algo que ha aprendido, entonces asegúrense de elegir un portavoz para su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structora: después de la discusión, comente algunas de las aplicaciones sobre qué podemos aprender de los gansos: </a:t>
            </a:r>
            <a:r>
              <a:rPr b="0" lang="es-ES" sz="1200" spc="-1" strike="noStrike" u="sng">
                <a:solidFill>
                  <a:srgbClr val="000000"/>
                </a:solidFill>
                <a:uFillTx/>
                <a:latin typeface="Arial"/>
              </a:rPr>
              <a:t>Impreso #3, “Historia de los gansos y sus aplicaciones</a:t>
            </a:r>
            <a:r>
              <a:rPr b="0" lang="es-ES" sz="1200" spc="-1" strike="noStrike">
                <a:solidFill>
                  <a:srgbClr val="000000"/>
                </a:solidFill>
                <a:latin typeface="Arial"/>
              </a:rPr>
              <a:t>”, con las participantes. Entregue a las participantes ese Impreso en este moment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B60777D-3FAA-4F0D-862E-A251E2018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2125800" y="536400"/>
            <a:ext cx="2444760" cy="1833840"/>
          </a:xfrm>
          <a:prstGeom prst="rect">
            <a:avLst/>
          </a:prstGeom>
          <a:ln w="0">
            <a:noFill/>
          </a:ln>
        </p:spPr>
      </p:sp>
      <p:sp>
        <p:nvSpPr>
          <p:cNvPr id="196" name="PlaceHolder 2"/>
          <p:cNvSpPr>
            <a:spLocks noGrp="1"/>
          </p:cNvSpPr>
          <p:nvPr>
            <p:ph type="body"/>
          </p:nvPr>
        </p:nvSpPr>
        <p:spPr>
          <a:xfrm>
            <a:off x="685800" y="2394000"/>
            <a:ext cx="5486400" cy="6005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bajar juntos trae sus desafíos y sus recompensas. De vez en cuando, deberíamos evaluarnos para determinar nuestros estilos de liderazgo. Es particularmente importante conocer, antes de tomar una importante tarea de guiar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vamos a trabajar en los detalles para la formación de líderes potenciales utilizando los vocablos </a:t>
            </a:r>
            <a:r>
              <a:rPr b="1" lang="es-ES" sz="1200" spc="-1" strike="noStrike">
                <a:solidFill>
                  <a:srgbClr val="000000"/>
                </a:solidFill>
                <a:latin typeface="Arial"/>
              </a:rPr>
              <a:t>CUIDADO – RECONOCIMIENTO – ESTÍMULO – APRECIO – CAPACITACIÓN – CONFIANZA. </a:t>
            </a:r>
            <a:r>
              <a:rPr b="0" lang="es-ES" sz="1200" spc="-1" strike="noStrike">
                <a:solidFill>
                  <a:srgbClr val="000000"/>
                </a:solidFill>
                <a:latin typeface="Arial"/>
              </a:rPr>
              <a:t>Estas palabras forman la base para la formación de un mentor o protegido y es una parte vital de nuestro seminario de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mos a ver como usando estas palabras y asociándolas podemos ser eficaces guiando a otros en el lideraz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52548-C96F-408D-A8F8-D6B7B0F8A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84C37-D92A-4EAB-8686-91BECE47C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FE260-F606-4220-B485-C859A0EE4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D9DFA-1606-4357-8AD6-865DC5FCC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D617C-A165-4D50-8F94-C19B839DD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AE75D-40C5-4FC1-8F07-76C3915EC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6F0B8-A2A1-4CAB-A156-6A9170582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2CD7F-A6CC-4303-8DA2-2598502DB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2C51F-BDBB-441F-9931-299064073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02533-8301-436F-9351-04F4FFA19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E81DF-E548-4C30-A6A3-507C2C900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904C6-7C06-4FEF-8B13-D26712D74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5B4A-A205-4264-8EE3-752A4EDE10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9"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8597-8AF2-4266-A75D-2EF3F60BD9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4" descr="Leadership"/>
          <p:cNvPicPr/>
          <p:nvPr/>
        </p:nvPicPr>
        <p:blipFill>
          <a:blip r:embed="rId1"/>
          <a:stretch/>
        </p:blipFill>
        <p:spPr>
          <a:xfrm>
            <a:off x="0" y="-27000"/>
            <a:ext cx="9178920" cy="6885000"/>
          </a:xfrm>
          <a:prstGeom prst="rect">
            <a:avLst/>
          </a:prstGeom>
          <a:ln w="0">
            <a:noFill/>
          </a:ln>
        </p:spPr>
      </p:pic>
      <p:sp>
        <p:nvSpPr>
          <p:cNvPr id="51" name="Text Box 6"/>
          <p:cNvSpPr/>
          <p:nvPr/>
        </p:nvSpPr>
        <p:spPr>
          <a:xfrm>
            <a:off x="971640" y="5157720"/>
            <a:ext cx="374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inisterio de la Muj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ertificación de Lideraz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Nivel </a:t>
            </a:r>
            <a:r>
              <a:rPr b="1" lang="es-ES" sz="3200" spc="-1" strike="noStrike">
                <a:solidFill>
                  <a:srgbClr val="000000"/>
                </a:solidFill>
                <a:latin typeface="Tahoma"/>
              </a:rPr>
              <a:t>4</a:t>
            </a:r>
            <a:endParaRPr b="0" lang="en-US" sz="3200" spc="-1" strike="noStrike">
              <a:solidFill>
                <a:srgbClr val="000000"/>
              </a:solidFill>
              <a:latin typeface="Arial"/>
            </a:endParaRPr>
          </a:p>
        </p:txBody>
      </p:sp>
      <p:pic>
        <p:nvPicPr>
          <p:cNvPr id="52" name="Picture 9" descr="Logo300"/>
          <p:cNvPicPr/>
          <p:nvPr/>
        </p:nvPicPr>
        <p:blipFill>
          <a:blip r:embed="rId2"/>
          <a:stretch/>
        </p:blipFill>
        <p:spPr>
          <a:xfrm>
            <a:off x="2195640" y="4365720"/>
            <a:ext cx="1008000" cy="689040"/>
          </a:xfrm>
          <a:prstGeom prst="rect">
            <a:avLst/>
          </a:prstGeom>
          <a:ln w="0">
            <a:noFill/>
          </a:ln>
        </p:spPr>
      </p:pic>
      <p:sp>
        <p:nvSpPr>
          <p:cNvPr id="53" name="Text Box 12"/>
          <p:cNvSpPr/>
          <p:nvPr/>
        </p:nvSpPr>
        <p:spPr>
          <a:xfrm>
            <a:off x="1870200" y="3086280"/>
            <a:ext cx="2009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B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Iris L. Kitching</a:t>
            </a:r>
            <a:endParaRPr b="0" lang="en-US" sz="2000" spc="-1" strike="noStrike">
              <a:solidFill>
                <a:srgbClr val="000000"/>
              </a:solidFill>
              <a:latin typeface="Arial"/>
            </a:endParaRPr>
          </a:p>
        </p:txBody>
      </p:sp>
      <p:sp>
        <p:nvSpPr>
          <p:cNvPr id="54" name="Text Box 13"/>
          <p:cNvSpPr/>
          <p:nvPr/>
        </p:nvSpPr>
        <p:spPr>
          <a:xfrm>
            <a:off x="971640" y="1628640"/>
            <a:ext cx="4321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omic Sans MS"/>
              </a:rPr>
              <a:t>FORMANDO LÍDERE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omic Sans MS"/>
              </a:rPr>
              <a:t>POTENCI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520D-7B18-4B62-A8F7-96DD12FA4D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7" name="Picture 4" descr="Leadership02"/>
          <p:cNvPicPr/>
          <p:nvPr/>
        </p:nvPicPr>
        <p:blipFill>
          <a:blip r:embed="rId1"/>
          <a:stretch/>
        </p:blipFill>
        <p:spPr>
          <a:xfrm>
            <a:off x="0" y="-1440"/>
            <a:ext cx="9144000" cy="6859440"/>
          </a:xfrm>
          <a:prstGeom prst="rect">
            <a:avLst/>
          </a:prstGeom>
          <a:ln w="0">
            <a:noFill/>
          </a:ln>
        </p:spPr>
      </p:pic>
      <p:sp>
        <p:nvSpPr>
          <p:cNvPr id="98" name="PlaceHolder 1"/>
          <p:cNvSpPr>
            <a:spLocks noGrp="1"/>
          </p:cNvSpPr>
          <p:nvPr>
            <p:ph/>
          </p:nvPr>
        </p:nvSpPr>
        <p:spPr>
          <a:xfrm>
            <a:off x="682560" y="1700280"/>
            <a:ext cx="5905440" cy="3959280"/>
          </a:xfrm>
          <a:prstGeom prst="rect">
            <a:avLst/>
          </a:prstGeom>
          <a:noFill/>
          <a:ln w="0">
            <a:noFill/>
          </a:ln>
        </p:spPr>
        <p:txBody>
          <a:bodyPr anchor="t">
            <a:normAutofit fontScale="84000"/>
          </a:bodyPr>
          <a:p>
            <a:pPr marL="288000"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2600" spc="-1" strike="noStrike">
                <a:solidFill>
                  <a:srgbClr val="000000"/>
                </a:solidFill>
                <a:latin typeface="Arial"/>
              </a:rPr>
              <a:t>Gran parte de la insatisfacción entre las mujeres cristianas de hoy es, yo creo, debido a nuestra elección de Dios como el centro de nuestras vidas, pero no me alineo con los propósitos que Dios ha puesto en nosotros”.</a:t>
            </a:r>
            <a:r>
              <a:rPr b="0" lang="es-ES" sz="2600" spc="-1" strike="noStrike">
                <a:solidFill>
                  <a:srgbClr val="000000"/>
                </a:solidFill>
                <a:latin typeface="Arial"/>
              </a:rPr>
              <a:t> </a:t>
            </a:r>
            <a:endParaRPr b="0" lang="en-US" sz="2600" spc="-1" strike="noStrike">
              <a:solidFill>
                <a:srgbClr val="000000"/>
              </a:solidFill>
              <a:latin typeface="Arial"/>
            </a:endParaRPr>
          </a:p>
          <a:p>
            <a:pPr marL="288000"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Jan Johnson, </a:t>
            </a:r>
            <a:endParaRPr b="0" lang="en-US" sz="2600" spc="-1" strike="noStrike">
              <a:solidFill>
                <a:srgbClr val="000000"/>
              </a:solidFill>
              <a:latin typeface="Arial"/>
            </a:endParaRPr>
          </a:p>
          <a:p>
            <a:pPr marL="28800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Living a Purpose-Full Life</a:t>
            </a:r>
            <a:endParaRPr b="0" lang="en-US" sz="2600" spc="-1" strike="noStrike">
              <a:solidFill>
                <a:srgbClr val="000000"/>
              </a:solidFill>
              <a:latin typeface="Arial"/>
            </a:endParaRPr>
          </a:p>
          <a:p>
            <a:pPr marL="288000"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99" name="PlaceHolder 2"/>
          <p:cNvSpPr>
            <a:spLocks noGrp="1"/>
          </p:cNvSpPr>
          <p:nvPr>
            <p:ph type="title"/>
          </p:nvPr>
        </p:nvSpPr>
        <p:spPr>
          <a:xfrm>
            <a:off x="395280" y="475920"/>
            <a:ext cx="706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enguiat Bk BT"/>
              </a:rPr>
              <a:t>Cuid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952AC-CA93-483C-8BE7-DEEA59D1EC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03" name="Picture 4" descr="Leadership02"/>
          <p:cNvPicPr/>
          <p:nvPr/>
        </p:nvPicPr>
        <p:blipFill>
          <a:blip r:embed="rId1"/>
          <a:stretch/>
        </p:blipFill>
        <p:spPr>
          <a:xfrm>
            <a:off x="0" y="0"/>
            <a:ext cx="9144000" cy="6858000"/>
          </a:xfrm>
          <a:prstGeom prst="rect">
            <a:avLst/>
          </a:prstGeom>
          <a:ln w="0">
            <a:noFill/>
          </a:ln>
        </p:spPr>
      </p:pic>
      <p:sp>
        <p:nvSpPr>
          <p:cNvPr id="104" name="PlaceHolder 2"/>
          <p:cNvSpPr>
            <a:spLocks noGrp="1"/>
          </p:cNvSpPr>
          <p:nvPr>
            <p:ph/>
          </p:nvPr>
        </p:nvSpPr>
        <p:spPr>
          <a:xfrm>
            <a:off x="250920" y="763560"/>
            <a:ext cx="6191280" cy="5402160"/>
          </a:xfrm>
          <a:prstGeom prst="rect">
            <a:avLst/>
          </a:prstGeom>
          <a:noFill/>
          <a:ln w="0">
            <a:noFill/>
          </a:ln>
        </p:spPr>
        <p:txBody>
          <a:bodyPr anchor="t">
            <a:normAutofit/>
          </a:bodyPr>
          <a:p>
            <a:pPr marL="343080"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Una persona con talento que muestra un interés de corazón a corazón hacia los demás y tiene un liderazgo potencial, puede ser una líder eficaz si se le da las herramientas adecuadas. Sin tener en cuenta su tipo o estilo de personalidad, si son reales y permiten que Dios obre a través de ellas, son capaces de aprender y crecer en el liderazg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6EBA-29FF-49B6-BC77-238942DE61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4" descr="Leadership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1855800"/>
            <a:ext cx="61308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ach person is given something to do that shows who God is: Everyone gets in on it, everyone benefits. All kinds of things are handed out by the Spirit, and to all kinds of people! The variety is wonderful.” </a:t>
            </a: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 Corinthians 12:7, The Message)</a:t>
            </a: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type="title"/>
          </p:nvPr>
        </p:nvSpPr>
        <p:spPr>
          <a:xfrm>
            <a:off x="10764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enguiat Bk BT"/>
              </a:rPr>
              <a:t>Reconocimien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883A-1DAD-4C18-A072-4E20A9D5EE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13" name="Picture 4" descr="Leadership02"/>
          <p:cNvPicPr/>
          <p:nvPr/>
        </p:nvPicPr>
        <p:blipFill>
          <a:blip r:embed="rId1"/>
          <a:stretch/>
        </p:blipFill>
        <p:spPr>
          <a:xfrm>
            <a:off x="0" y="0"/>
            <a:ext cx="9144000" cy="6858000"/>
          </a:xfrm>
          <a:prstGeom prst="rect">
            <a:avLst/>
          </a:prstGeom>
          <a:ln w="0">
            <a:noFill/>
          </a:ln>
        </p:spPr>
      </p:pic>
      <p:sp>
        <p:nvSpPr>
          <p:cNvPr id="114" name="PlaceHolder 2"/>
          <p:cNvSpPr>
            <a:spLocks noGrp="1"/>
          </p:cNvSpPr>
          <p:nvPr>
            <p:ph/>
          </p:nvPr>
        </p:nvSpPr>
        <p:spPr>
          <a:xfrm>
            <a:off x="34560" y="622080"/>
            <a:ext cx="6480360" cy="5327640"/>
          </a:xfrm>
          <a:prstGeom prst="rect">
            <a:avLst/>
          </a:prstGeom>
          <a:noFill/>
          <a:ln w="0">
            <a:noFill/>
          </a:ln>
        </p:spPr>
        <p:txBody>
          <a:bodyPr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o those upon whom God has bestowed many talents… Help the inexperienced; discourage them not. Take them into your confidence; give them fatherly counsel…. watch not for their mistakes, but recognize their undeveloped talent, and train them to make a right use of these powers. Instruct them with all patience, encouraging them to go forward and to do an important work. Instead of keeping them engaged in doing things of minor importance, give them an opportunity to obtain an experience by which they may develop into trustworthy workers. Much will thus be gained to the cause of God.” </a:t>
            </a:r>
            <a:endParaRPr b="0" lang="en-US" sz="2400" spc="-1" strike="noStrike">
              <a:solidFill>
                <a:srgbClr val="000000"/>
              </a:solidFill>
              <a:latin typeface="Arial"/>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view and Herald, June 27, 19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6F4CA-4A53-43E6-8DB9-2F12D459B3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7" name="Picture 4" descr="Leadership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68000" y="1782720"/>
            <a:ext cx="5832360" cy="4525920"/>
          </a:xfrm>
          <a:prstGeom prst="rect">
            <a:avLst/>
          </a:prstGeom>
          <a:noFill/>
          <a:ln w="0">
            <a:noFill/>
          </a:ln>
        </p:spPr>
        <p:txBody>
          <a:bodyPr anchor="t">
            <a:normAutofit/>
          </a:bodyPr>
          <a:p>
            <a:pPr marL="343080" indent="-343080" algn="ctr">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very person needs to be encouraged along life’s path and to know that what they have done, or are doing. Don’t be stingy with well deserved compliments and words of appreciation.</a:t>
            </a:r>
            <a:endParaRPr b="0" lang="en-US" sz="2800" spc="-1" strike="noStrike">
              <a:solidFill>
                <a:srgbClr val="000000"/>
              </a:solidFill>
              <a:latin typeface="Arial"/>
            </a:endParaRPr>
          </a:p>
        </p:txBody>
      </p:sp>
      <p:sp>
        <p:nvSpPr>
          <p:cNvPr id="119" name="PlaceHolder 2"/>
          <p:cNvSpPr>
            <a:spLocks noGrp="1"/>
          </p:cNvSpPr>
          <p:nvPr>
            <p:ph type="title"/>
          </p:nvPr>
        </p:nvSpPr>
        <p:spPr>
          <a:xfrm>
            <a:off x="34560" y="556920"/>
            <a:ext cx="6645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nguiat Bk BT"/>
              </a:rPr>
              <a:t>Encour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9A1A-B5B1-434B-9B5B-4CE6B9F517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23" name="Picture 4" descr="Leadership02"/>
          <p:cNvPicPr/>
          <p:nvPr/>
        </p:nvPicPr>
        <p:blipFill>
          <a:blip r:embed="rId1"/>
          <a:stretch/>
        </p:blipFill>
        <p:spPr>
          <a:xfrm>
            <a:off x="0" y="-1440"/>
            <a:ext cx="9144000" cy="6859440"/>
          </a:xfrm>
          <a:prstGeom prst="rect">
            <a:avLst/>
          </a:prstGeom>
          <a:ln w="0">
            <a:noFill/>
          </a:ln>
        </p:spPr>
      </p:pic>
      <p:sp>
        <p:nvSpPr>
          <p:cNvPr id="124" name="PlaceHolder 2"/>
          <p:cNvSpPr>
            <a:spLocks noGrp="1"/>
          </p:cNvSpPr>
          <p:nvPr>
            <p:ph/>
          </p:nvPr>
        </p:nvSpPr>
        <p:spPr>
          <a:xfrm>
            <a:off x="107640" y="660240"/>
            <a:ext cx="6048360" cy="5793120"/>
          </a:xfrm>
          <a:prstGeom prst="rect">
            <a:avLst/>
          </a:prstGeom>
          <a:noFill/>
          <a:ln w="0">
            <a:noFill/>
          </a:ln>
        </p:spPr>
        <p:txBody>
          <a:bodyPr anchor="t">
            <a:normAutofit fontScale="99000"/>
          </a:bodyPr>
          <a:p>
            <a:pPr marL="3394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ange in our lives comes as a result of having our minds renewed by the Word of God. As we agree with God and really believe that what He says is true, it gradually begins to manifest itself in us. We begin to think differently, then we begin to talk differently, and finally we begin to act differently. This is a process that develops in stages. Enjoy yourself while you are changing. Enjoy where you are on the way to where you are going. Enjoy the journey!”</a:t>
            </a:r>
            <a:endParaRPr b="0" lang="en-US" sz="2400" spc="-1" strike="noStrike">
              <a:solidFill>
                <a:srgbClr val="000000"/>
              </a:solidFill>
              <a:latin typeface="Arial"/>
            </a:endParaRPr>
          </a:p>
          <a:p>
            <a:pPr marL="3394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oyce Meyers – in “Being a Person God Made You to B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05432-156E-413F-8313-A928684BDF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4" descr="Leadership02"/>
          <p:cNvPicPr/>
          <p:nvPr/>
        </p:nvPicPr>
        <p:blipFill>
          <a:blip r:embed="rId1"/>
          <a:stretch/>
        </p:blipFill>
        <p:spPr>
          <a:xfrm>
            <a:off x="0" y="-1440"/>
            <a:ext cx="9144000" cy="6859440"/>
          </a:xfrm>
          <a:prstGeom prst="rect">
            <a:avLst/>
          </a:prstGeom>
          <a:ln w="0">
            <a:noFill/>
          </a:ln>
        </p:spPr>
      </p:pic>
      <p:sp>
        <p:nvSpPr>
          <p:cNvPr id="128" name="PlaceHolder 1"/>
          <p:cNvSpPr>
            <a:spLocks noGrp="1"/>
          </p:cNvSpPr>
          <p:nvPr>
            <p:ph/>
          </p:nvPr>
        </p:nvSpPr>
        <p:spPr>
          <a:xfrm>
            <a:off x="468000" y="1782720"/>
            <a:ext cx="5986440" cy="4525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next step toward acknowledging another’s potential is to let them know you appreciate their efforts.  William James, psychologist and philosopher, said, “The deepest principle in human nature is the craving to be appreciated.”</a:t>
            </a:r>
            <a:endParaRPr b="0" lang="en-US" sz="2800" spc="-1" strike="noStrike">
              <a:solidFill>
                <a:srgbClr val="000000"/>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rainy Quote)</a:t>
            </a:r>
            <a:endParaRPr b="0" lang="en-US" sz="2400" spc="-1" strike="noStrike">
              <a:solidFill>
                <a:srgbClr val="000000"/>
              </a:solidFill>
              <a:latin typeface="Arial"/>
            </a:endParaRPr>
          </a:p>
        </p:txBody>
      </p:sp>
      <p:sp>
        <p:nvSpPr>
          <p:cNvPr id="129" name="PlaceHolder 2"/>
          <p:cNvSpPr>
            <a:spLocks noGrp="1"/>
          </p:cNvSpPr>
          <p:nvPr>
            <p:ph type="title"/>
          </p:nvPr>
        </p:nvSpPr>
        <p:spPr>
          <a:xfrm>
            <a:off x="394920" y="620280"/>
            <a:ext cx="64198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Benguiat Bk BT"/>
              </a:rPr>
              <a:t>A</a:t>
            </a:r>
            <a:r>
              <a:rPr b="0" lang="en-US" sz="4000" spc="-1" strike="noStrike">
                <a:solidFill>
                  <a:srgbClr val="000000"/>
                </a:solidFill>
                <a:latin typeface="Benguiat Bk BT"/>
              </a:rPr>
              <a:t>ppreciate</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3AD3-72B1-4410-BEA4-F5CB1CDF75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33" name="Picture 4" descr="Leadership02"/>
          <p:cNvPicPr/>
          <p:nvPr/>
        </p:nvPicPr>
        <p:blipFill>
          <a:blip r:embed="rId1"/>
          <a:stretch/>
        </p:blipFill>
        <p:spPr>
          <a:xfrm>
            <a:off x="0" y="0"/>
            <a:ext cx="9144000" cy="6858000"/>
          </a:xfrm>
          <a:prstGeom prst="rect">
            <a:avLst/>
          </a:prstGeom>
          <a:ln w="0">
            <a:noFill/>
          </a:ln>
        </p:spPr>
      </p:pic>
      <p:sp>
        <p:nvSpPr>
          <p:cNvPr id="134" name="PlaceHolder 2"/>
          <p:cNvSpPr>
            <a:spLocks noGrp="1"/>
          </p:cNvSpPr>
          <p:nvPr>
            <p:ph/>
          </p:nvPr>
        </p:nvSpPr>
        <p:spPr>
          <a:xfrm>
            <a:off x="385920" y="1557360"/>
            <a:ext cx="6130800" cy="4525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 you mentor and lead, let words of praise flow from your lips so that those you are ministering to or serving can feel comfortable knowing that at every stage along the way to leadership they are grow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14AF-695E-42AB-A506-BE568B931E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38" name="Picture 4" descr="Leadership02"/>
          <p:cNvPicPr/>
          <p:nvPr/>
        </p:nvPicPr>
        <p:blipFill>
          <a:blip r:embed="rId1"/>
          <a:stretch/>
        </p:blipFill>
        <p:spPr>
          <a:xfrm>
            <a:off x="0" y="0"/>
            <a:ext cx="9144000" cy="6858000"/>
          </a:xfrm>
          <a:prstGeom prst="rect">
            <a:avLst/>
          </a:prstGeom>
          <a:ln w="0">
            <a:noFill/>
          </a:ln>
        </p:spPr>
      </p:pic>
      <p:sp>
        <p:nvSpPr>
          <p:cNvPr id="139" name="PlaceHolder 2"/>
          <p:cNvSpPr>
            <a:spLocks noGrp="1"/>
          </p:cNvSpPr>
          <p:nvPr>
            <p:ph/>
          </p:nvPr>
        </p:nvSpPr>
        <p:spPr>
          <a:xfrm>
            <a:off x="250920" y="1782720"/>
            <a:ext cx="6696000" cy="4525920"/>
          </a:xfrm>
          <a:prstGeom prst="rect">
            <a:avLst/>
          </a:prstGeom>
          <a:noFill/>
          <a:ln w="0">
            <a:noFill/>
          </a:ln>
        </p:spPr>
        <p:txBody>
          <a:bodyPr anchor="t">
            <a:normAutofit fontScale="88000"/>
          </a:bodyPr>
          <a:p>
            <a:pPr marL="3016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If in their ministry those whom we teach develop an energy and an intelligence even superior to that which we possess, we should be led to rejoice over the privilege of having a part in the work of training them.” </a:t>
            </a:r>
            <a:endParaRPr b="0" lang="en-US" sz="2800" spc="-1" strike="noStrike">
              <a:solidFill>
                <a:srgbClr val="000000"/>
              </a:solidFill>
              <a:latin typeface="Arial"/>
            </a:endParaRPr>
          </a:p>
          <a:p>
            <a:pPr marL="3016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view and Herald, Dec. 1, 1904</a:t>
            </a:r>
            <a:endParaRPr b="0" lang="en-US" sz="2800" spc="-1" strike="noStrike">
              <a:solidFill>
                <a:srgbClr val="000000"/>
              </a:solidFill>
              <a:latin typeface="Arial"/>
            </a:endParaRPr>
          </a:p>
          <a:p>
            <a:pPr marL="3016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911A-58E0-4EF1-93CF-B99CBDEAED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2" name="Picture 4" descr="Leadership02"/>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456840" y="1208160"/>
            <a:ext cx="6419880" cy="452592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ep it simple</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personal; work one on one </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stablish eye contact</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tolerant</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velop a bond with the protégé  </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linquish control</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sten to your upcoming leader and don’t think you have all the answer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attentive</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ke certain the learning atmosphere is inviting – warm – affirming</a:t>
            </a:r>
            <a:endParaRPr b="0" lang="en-US" sz="2800" spc="-1" strike="noStrike">
              <a:solidFill>
                <a:srgbClr val="000000"/>
              </a:solidFill>
              <a:latin typeface="Arial"/>
            </a:endParaRPr>
          </a:p>
        </p:txBody>
      </p:sp>
      <p:sp>
        <p:nvSpPr>
          <p:cNvPr id="1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nguiat Bk BT"/>
              </a:rPr>
              <a:t>T</a:t>
            </a:r>
            <a:r>
              <a:rPr b="0" lang="en-US" sz="4400" spc="-1" strike="noStrike">
                <a:solidFill>
                  <a:srgbClr val="000000"/>
                </a:solidFill>
                <a:latin typeface="Benguiat Bk BT"/>
              </a:rPr>
              <a:t>ra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5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52755-E0EE-4E0B-BDCF-CEDB121C5C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4" descr="Leadership"/>
          <p:cNvPicPr/>
          <p:nvPr/>
        </p:nvPicPr>
        <p:blipFill>
          <a:blip r:embed="rId1"/>
          <a:stretch/>
        </p:blipFill>
        <p:spPr>
          <a:xfrm>
            <a:off x="0" y="-27000"/>
            <a:ext cx="9178920" cy="6858000"/>
          </a:xfrm>
          <a:prstGeom prst="rect">
            <a:avLst/>
          </a:prstGeom>
          <a:ln w="0">
            <a:noFill/>
          </a:ln>
        </p:spPr>
      </p:pic>
      <p:sp>
        <p:nvSpPr>
          <p:cNvPr id="58" name="PlaceHolder 1"/>
          <p:cNvSpPr>
            <a:spLocks noGrp="1"/>
          </p:cNvSpPr>
          <p:nvPr>
            <p:ph/>
          </p:nvPr>
        </p:nvSpPr>
        <p:spPr>
          <a:xfrm>
            <a:off x="395280" y="404280"/>
            <a:ext cx="7848720" cy="452628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Qué es liderazgo? Según el diccionario enciclopédico Wikipedia: “Es un proceso de influir en otras personas y de incentivarlas para que trabajen en forma entusiasta por un objetivo común. Se entiende también como la capacidad de inspirar a otros, de soñar y convertir sus sueños en realidad, de generar pasión y energía en todo lo que hacen y transmitirla a las personas que les rode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901F-705F-4573-854E-4F24DCC47C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48" name="Picture 4" descr="Leadership02"/>
          <p:cNvPicPr/>
          <p:nvPr/>
        </p:nvPicPr>
        <p:blipFill>
          <a:blip r:embed="rId1"/>
          <a:stretch/>
        </p:blipFill>
        <p:spPr>
          <a:xfrm>
            <a:off x="0" y="0"/>
            <a:ext cx="9144000" cy="6858000"/>
          </a:xfrm>
          <a:prstGeom prst="rect">
            <a:avLst/>
          </a:prstGeom>
          <a:ln w="0">
            <a:noFill/>
          </a:ln>
        </p:spPr>
      </p:pic>
      <p:sp>
        <p:nvSpPr>
          <p:cNvPr id="149" name="PlaceHolder 2"/>
          <p:cNvSpPr>
            <a:spLocks noGrp="1"/>
          </p:cNvSpPr>
          <p:nvPr>
            <p:ph/>
          </p:nvPr>
        </p:nvSpPr>
        <p:spPr>
          <a:xfrm>
            <a:off x="250920" y="1566360"/>
            <a:ext cx="6562800" cy="452628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on’t try to follow a manual or have stringent guidelines. Trust God and keep open to the possibilities around you. The training you give is an investment that can pay big dividends as you see the budding leader build in confidence and experience. And the interdependence you share in the process will be a joy for both of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5511-70D6-4CB9-8CD3-59117AA4A5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Picture 4" descr="Leadership02"/>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250920" y="1341360"/>
            <a:ext cx="6635520" cy="4525920"/>
          </a:xfrm>
          <a:prstGeom prst="rect">
            <a:avLst/>
          </a:prstGeom>
          <a:noFill/>
          <a:ln w="0">
            <a:noFill/>
          </a:ln>
        </p:spPr>
        <p:txBody>
          <a:bodyPr anchor="t">
            <a:normAutofit fontScale="95000"/>
          </a:bodyPr>
          <a:p>
            <a:pPr marL="32580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sure that in your partnership with your potential leader you are on the right track!  Stay in tune with God so you know what to do and when. With God in control, your prospective leader can begin to spread his/her wings and test out the new skills. But your caring, recognizing, encouraging, appreciating, and training helps lay the groundwork.</a:t>
            </a:r>
            <a:endParaRPr b="0" lang="en-US" sz="2800" spc="-1" strike="noStrike">
              <a:solidFill>
                <a:srgbClr val="000000"/>
              </a:solidFill>
              <a:latin typeface="Arial"/>
            </a:endParaRPr>
          </a:p>
        </p:txBody>
      </p:sp>
      <p:sp>
        <p:nvSpPr>
          <p:cNvPr id="154" name="PlaceHolder 2"/>
          <p:cNvSpPr>
            <a:spLocks noGrp="1"/>
          </p:cNvSpPr>
          <p:nvPr>
            <p:ph type="title"/>
          </p:nvPr>
        </p:nvSpPr>
        <p:spPr>
          <a:xfrm>
            <a:off x="45720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nguiat Bk BT"/>
              </a:rPr>
              <a:t>E</a:t>
            </a:r>
            <a:r>
              <a:rPr b="0" lang="en-US" sz="4400" spc="-1" strike="noStrike">
                <a:solidFill>
                  <a:srgbClr val="000000"/>
                </a:solidFill>
                <a:latin typeface="Benguiat Bk BT"/>
              </a:rPr>
              <a:t>ntru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05B8-9C6D-42E3-A1FB-A3C63A63E0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58" name="Picture 4" descr="Leadership02"/>
          <p:cNvPicPr/>
          <p:nvPr/>
        </p:nvPicPr>
        <p:blipFill>
          <a:blip r:embed="rId1"/>
          <a:stretch/>
        </p:blipFill>
        <p:spPr>
          <a:xfrm>
            <a:off x="0" y="0"/>
            <a:ext cx="9144000" cy="6858000"/>
          </a:xfrm>
          <a:prstGeom prst="rect">
            <a:avLst/>
          </a:prstGeom>
          <a:ln w="0">
            <a:noFill/>
          </a:ln>
        </p:spPr>
      </p:pic>
      <p:sp>
        <p:nvSpPr>
          <p:cNvPr id="159" name="PlaceHolder 2"/>
          <p:cNvSpPr>
            <a:spLocks noGrp="1"/>
          </p:cNvSpPr>
          <p:nvPr>
            <p:ph/>
          </p:nvPr>
        </p:nvSpPr>
        <p:spPr>
          <a:xfrm>
            <a:off x="107640" y="703440"/>
            <a:ext cx="6275160" cy="4525920"/>
          </a:xfrm>
          <a:prstGeom prst="rect">
            <a:avLst/>
          </a:prstGeom>
          <a:noFill/>
          <a:ln w="0">
            <a:noFill/>
          </a:ln>
        </p:spPr>
        <p:txBody>
          <a:bodyPr anchor="t">
            <a:normAutofit fontScale="89000"/>
          </a:bodyPr>
          <a:p>
            <a:pPr marL="305280" indent="-3052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e of the biggest problems numerous leaders have is not letting go after the training is complete and allowing the leader-in-training to lead. There are various reasons why: selfishness, fear of loss of power, jealousy, insecurity, etc. As we recall that God has placed each of us here for a purpose, let that remind us to allow him to work out his purpose in others and not selfishly try to hog control, recognition, accolades, or 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5572-DD07-47D3-AA44-B5FFDEE056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63" name="Picture 4" descr="Leadership02"/>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395280" y="1341360"/>
            <a:ext cx="6130800" cy="4525920"/>
          </a:xfrm>
          <a:prstGeom prst="rect">
            <a:avLst/>
          </a:prstGeom>
          <a:noFill/>
          <a:ln w="0">
            <a:noFill/>
          </a:ln>
        </p:spPr>
        <p:txBody>
          <a:bodyPr anchor="t">
            <a:normAutofit fontScale="97000"/>
          </a:bodyPr>
          <a:p>
            <a:pPr marL="3326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llen White in Testimonies to Ministers and Gospel Worker, says: “The height man [woman] may reach by proper culture has not hitherto been realized…. If their capabilities were brought into use, we should have twenty ministers [leaders] where we now have one.” (p. 1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061B-D3F8-4870-916B-327F729CD6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68" name="Picture 4" descr="Leadership02"/>
          <p:cNvPicPr/>
          <p:nvPr/>
        </p:nvPicPr>
        <p:blipFill>
          <a:blip r:embed="rId1"/>
          <a:stretch/>
        </p:blipFill>
        <p:spPr>
          <a:xfrm>
            <a:off x="0" y="0"/>
            <a:ext cx="9144000" cy="6858000"/>
          </a:xfrm>
          <a:prstGeom prst="rect">
            <a:avLst/>
          </a:prstGeom>
          <a:ln w="0">
            <a:noFill/>
          </a:ln>
        </p:spPr>
      </p:pic>
      <p:sp>
        <p:nvSpPr>
          <p:cNvPr id="169" name="PlaceHolder 2"/>
          <p:cNvSpPr>
            <a:spLocks noGrp="1"/>
          </p:cNvSpPr>
          <p:nvPr>
            <p:ph/>
          </p:nvPr>
        </p:nvSpPr>
        <p:spPr>
          <a:xfrm>
            <a:off x="395280" y="1341360"/>
            <a:ext cx="6130800" cy="4525920"/>
          </a:xfrm>
          <a:prstGeom prst="rect">
            <a:avLst/>
          </a:prstGeom>
          <a:noFill/>
          <a:ln w="0">
            <a:noFill/>
          </a:ln>
        </p:spPr>
        <p:txBody>
          <a:bodyPr anchor="t">
            <a:normAutofit fontScale="96000"/>
          </a:bodyPr>
          <a:p>
            <a:pPr marL="3290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xwell, a well known writer in the area of leadership wrote: “Leadership in any organization - whether in the local church or in some other Christian activity - is never just a job. It is always a way of life, demanding from those who would be leaders a 24-hour-a-day commi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0"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56E06-06A8-47F4-9B3E-6E07001A99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62" name="Picture 4" descr="Leadership02"/>
          <p:cNvPicPr/>
          <p:nvPr/>
        </p:nvPicPr>
        <p:blipFill>
          <a:blip r:embed="rId1"/>
          <a:stretch/>
        </p:blipFill>
        <p:spPr>
          <a:xfrm>
            <a:off x="0" y="0"/>
            <a:ext cx="9144000" cy="6858000"/>
          </a:xfrm>
          <a:prstGeom prst="rect">
            <a:avLst/>
          </a:prstGeom>
          <a:ln w="0">
            <a:noFill/>
          </a:ln>
        </p:spPr>
      </p:pic>
      <p:sp>
        <p:nvSpPr>
          <p:cNvPr id="63" name="PlaceHolder 2"/>
          <p:cNvSpPr>
            <a:spLocks noGrp="1"/>
          </p:cNvSpPr>
          <p:nvPr>
            <p:ph/>
          </p:nvPr>
        </p:nvSpPr>
        <p:spPr>
          <a:xfrm>
            <a:off x="250560" y="836640"/>
            <a:ext cx="5987880" cy="4896000"/>
          </a:xfrm>
          <a:prstGeom prst="rect">
            <a:avLst/>
          </a:prstGeom>
          <a:noFill/>
          <a:ln w="0">
            <a:noFill/>
          </a:ln>
        </p:spPr>
        <p:txBody>
          <a:bodyPr anchor="t">
            <a:normAutofit/>
          </a:bodyPr>
          <a:p>
            <a:pPr marL="343080" indent="-343080" algn="ctr">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omo cristianas y discípulas de Jesús, estamos llamadas a usar nuestros dones, conocimiento y habilidades para ayudar a otros a alcanzar la plenitud de Cristo y luego encomendarnos a Dios para utilizar nuestra influencia de liderazgo y poder para bi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5"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E0072-90BA-4AA3-A334-AFE21E5B7E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67" name="Picture 4" descr="Leadership02"/>
          <p:cNvPicPr/>
          <p:nvPr/>
        </p:nvPicPr>
        <p:blipFill>
          <a:blip r:embed="rId1"/>
          <a:stretch/>
        </p:blipFill>
        <p:spPr>
          <a:xfrm>
            <a:off x="0" y="0"/>
            <a:ext cx="9144000" cy="6858000"/>
          </a:xfrm>
          <a:prstGeom prst="rect">
            <a:avLst/>
          </a:prstGeom>
          <a:ln w="0">
            <a:noFill/>
          </a:ln>
        </p:spPr>
      </p:pic>
      <p:sp>
        <p:nvSpPr>
          <p:cNvPr id="68" name="PlaceHolder 2"/>
          <p:cNvSpPr>
            <a:spLocks noGrp="1"/>
          </p:cNvSpPr>
          <p:nvPr>
            <p:ph/>
          </p:nvPr>
        </p:nvSpPr>
        <p:spPr>
          <a:xfrm>
            <a:off x="108000" y="620280"/>
            <a:ext cx="6418080" cy="528948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Richard Tyre describe a la tutoría simplemente como “un cerebro para elegir, una oreja para escuchar, y un empujón en la dirección correct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ener el derecho a los atributos como una líder, significa que usted tendrá éxito como una mentor? Posiblemente, pero hay mucho más involucrado en conseguir y mantener una relación de tutoría y cuidado. Esto también conlleva compromiso, tiempo, enseñanz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0"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1619-A9D4-4336-92B8-4D16162F9A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72" name="Picture 4" descr="Leadership02"/>
          <p:cNvPicPr/>
          <p:nvPr/>
        </p:nvPicPr>
        <p:blipFill>
          <a:blip r:embed="rId1"/>
          <a:stretch/>
        </p:blipFill>
        <p:spPr>
          <a:xfrm>
            <a:off x="0" y="0"/>
            <a:ext cx="9144000" cy="6858000"/>
          </a:xfrm>
          <a:prstGeom prst="rect">
            <a:avLst/>
          </a:prstGeom>
          <a:ln w="0">
            <a:noFill/>
          </a:ln>
        </p:spPr>
      </p:pic>
      <p:sp>
        <p:nvSpPr>
          <p:cNvPr id="73" name="PlaceHolder 2"/>
          <p:cNvSpPr>
            <a:spLocks noGrp="1"/>
          </p:cNvSpPr>
          <p:nvPr>
            <p:ph/>
          </p:nvPr>
        </p:nvSpPr>
        <p:spPr>
          <a:xfrm>
            <a:off x="1115640" y="2491920"/>
            <a:ext cx="4537080" cy="4032360"/>
          </a:xfrm>
          <a:prstGeom prst="rect">
            <a:avLst/>
          </a:prstGeom>
          <a:noFill/>
          <a:ln w="0">
            <a:noFill/>
          </a:ln>
        </p:spPr>
        <p:txBody>
          <a:bodyPr anchor="t">
            <a:normAutofit/>
          </a:bodyPr>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C</a:t>
            </a:r>
            <a:r>
              <a:rPr b="0" i="1" lang="es-ES" sz="3600" spc="-1" strike="noStrike">
                <a:solidFill>
                  <a:srgbClr val="000000"/>
                </a:solidFill>
                <a:latin typeface="Arial"/>
              </a:rPr>
              <a:t>uidado</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R</a:t>
            </a:r>
            <a:r>
              <a:rPr b="0" i="1" lang="es-ES" sz="3600" spc="-1" strike="noStrike">
                <a:solidFill>
                  <a:srgbClr val="000000"/>
                </a:solidFill>
                <a:latin typeface="Arial"/>
              </a:rPr>
              <a:t>econoce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E</a:t>
            </a:r>
            <a:r>
              <a:rPr b="0" i="1" lang="es-ES" sz="3600" spc="-1" strike="noStrike">
                <a:solidFill>
                  <a:srgbClr val="000000"/>
                </a:solidFill>
                <a:latin typeface="Arial"/>
              </a:rPr>
              <a:t>stimula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A</a:t>
            </a:r>
            <a:r>
              <a:rPr b="0" lang="es-ES" sz="3600" spc="-1" strike="noStrike">
                <a:solidFill>
                  <a:srgbClr val="000000"/>
                </a:solidFill>
                <a:latin typeface="Arial"/>
              </a:rPr>
              <a:t>precia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C</a:t>
            </a:r>
            <a:r>
              <a:rPr b="0" lang="es-ES" sz="3600" spc="-1" strike="noStrike">
                <a:solidFill>
                  <a:srgbClr val="000000"/>
                </a:solidFill>
                <a:latin typeface="Arial"/>
              </a:rPr>
              <a:t>apacita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C</a:t>
            </a:r>
            <a:r>
              <a:rPr b="0" lang="es-ES" sz="3600" spc="-1" strike="noStrike">
                <a:solidFill>
                  <a:srgbClr val="000000"/>
                </a:solidFill>
                <a:latin typeface="Arial"/>
              </a:rPr>
              <a:t>onfiar</a:t>
            </a:r>
            <a:endParaRPr b="0" lang="en-US" sz="3600" spc="-1" strike="noStrike">
              <a:solidFill>
                <a:srgbClr val="000000"/>
              </a:solidFill>
              <a:latin typeface="Arial"/>
            </a:endParaRPr>
          </a:p>
        </p:txBody>
      </p:sp>
      <p:sp>
        <p:nvSpPr>
          <p:cNvPr id="74" name="Rectangle 6"/>
          <p:cNvSpPr/>
          <p:nvPr/>
        </p:nvSpPr>
        <p:spPr>
          <a:xfrm>
            <a:off x="468360" y="339120"/>
            <a:ext cx="5761080" cy="21045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 lo largo de este seminario presentaremos los siguientes vocablos que nos harán pensar más seriamente sobre cómo formar un líder poten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1AFD4-8C87-459A-811A-5ECFBE3C2D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78" name="Picture 4" descr="Leadership02"/>
          <p:cNvPicPr/>
          <p:nvPr/>
        </p:nvPicPr>
        <p:blipFill>
          <a:blip r:embed="rId1"/>
          <a:stretch/>
        </p:blipFill>
        <p:spPr>
          <a:xfrm>
            <a:off x="0" y="0"/>
            <a:ext cx="9144000" cy="6858000"/>
          </a:xfrm>
          <a:prstGeom prst="rect">
            <a:avLst/>
          </a:prstGeom>
          <a:ln w="0">
            <a:noFill/>
          </a:ln>
        </p:spPr>
      </p:pic>
      <p:sp>
        <p:nvSpPr>
          <p:cNvPr id="79" name="PlaceHolder 2"/>
          <p:cNvSpPr>
            <a:spLocks noGrp="1"/>
          </p:cNvSpPr>
          <p:nvPr>
            <p:ph/>
          </p:nvPr>
        </p:nvSpPr>
        <p:spPr>
          <a:xfrm>
            <a:off x="179280" y="620280"/>
            <a:ext cx="6337440" cy="547236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Efesios 1:11,12, nos recuerda que “Es en Cristo que nosotros encontramos quiénes somos y para qué estamos viviendo. Mucho antes que escucháramos de Cristo y tuviéramos esperanza, él ya tenía sus ojos puestos en nosotros, ya nos había designado para una vida gloriosa como parte del propósito general que está obrando en todo y para to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70A3-53E7-48A3-BD24-EB3331EE8C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83" name="Picture 4" descr="Leadership02"/>
          <p:cNvPicPr/>
          <p:nvPr/>
        </p:nvPicPr>
        <p:blipFill>
          <a:blip r:embed="rId1"/>
          <a:stretch/>
        </p:blipFill>
        <p:spPr>
          <a:xfrm>
            <a:off x="0" y="0"/>
            <a:ext cx="9144000" cy="6858000"/>
          </a:xfrm>
          <a:prstGeom prst="rect">
            <a:avLst/>
          </a:prstGeom>
          <a:ln w="0">
            <a:noFill/>
          </a:ln>
        </p:spPr>
      </p:pic>
      <p:sp>
        <p:nvSpPr>
          <p:cNvPr id="84" name="PlaceHolder 2"/>
          <p:cNvSpPr>
            <a:spLocks noGrp="1"/>
          </p:cNvSpPr>
          <p:nvPr>
            <p:ph/>
          </p:nvPr>
        </p:nvSpPr>
        <p:spPr>
          <a:xfrm>
            <a:off x="107640" y="475920"/>
            <a:ext cx="6551640" cy="5977080"/>
          </a:xfrm>
          <a:prstGeom prst="rect">
            <a:avLst/>
          </a:prstGeom>
          <a:noFill/>
          <a:ln w="0">
            <a:noFill/>
          </a:ln>
        </p:spPr>
        <p:txBody>
          <a:bodyPr anchor="t">
            <a:normAutofit/>
          </a:bodyPr>
          <a:p>
            <a:pPr marL="343080" indent="-343080" algn="ctr">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enga en mente que aunque las cualidades positivas son grandiosas, lo que somos, es mucho más importante que lo que decimos que somos. Ser una líder eficaz significa que el equipo para el cual trabajamos, confía en nosotros, o quiere seguir nuestros pasos. Una cita de Donald Clark dice, “Son los seguidores, y no el líder, quién determina si un líder es fabuloso” </a:t>
            </a:r>
            <a:endParaRPr b="0" lang="en-US" sz="28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a:t>
            </a:r>
            <a:r>
              <a:rPr b="0" i="1" lang="es-ES" sz="2400" spc="-1" strike="noStrike">
                <a:solidFill>
                  <a:srgbClr val="000000"/>
                </a:solidFill>
                <a:latin typeface="Arial"/>
              </a:rPr>
              <a:t>El arte y la ciencia del liderazgo, 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4E893-9A93-41DA-ABE5-F768654E1E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88" name="Picture 4" descr="Leadership02"/>
          <p:cNvPicPr/>
          <p:nvPr/>
        </p:nvPicPr>
        <p:blipFill>
          <a:blip r:embed="rId1"/>
          <a:stretch/>
        </p:blipFill>
        <p:spPr>
          <a:xfrm>
            <a:off x="0" y="0"/>
            <a:ext cx="9144000" cy="6858000"/>
          </a:xfrm>
          <a:prstGeom prst="rect">
            <a:avLst/>
          </a:prstGeom>
          <a:ln w="0">
            <a:noFill/>
          </a:ln>
        </p:spPr>
      </p:pic>
      <p:sp>
        <p:nvSpPr>
          <p:cNvPr id="89" name="PlaceHolder 2"/>
          <p:cNvSpPr>
            <a:spLocks noGrp="1"/>
          </p:cNvSpPr>
          <p:nvPr>
            <p:ph/>
          </p:nvPr>
        </p:nvSpPr>
        <p:spPr>
          <a:xfrm>
            <a:off x="250920" y="691920"/>
            <a:ext cx="6121440" cy="5832360"/>
          </a:xfrm>
          <a:prstGeom prst="rect">
            <a:avLst/>
          </a:prstGeom>
          <a:noFill/>
          <a:ln w="0">
            <a:noFill/>
          </a:ln>
        </p:spPr>
        <p:txBody>
          <a:bodyPr anchor="t">
            <a:normAutofit/>
          </a:bodyPr>
          <a:p>
            <a:pPr marL="343080" indent="0" algn="ctr">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rPr>
              <a:t>Debemos recordar siempre que “Cada mayordomo tiene su propia obra específica que debe hacer para promover el reino de Dios. A nadie se excusa. El Señor nos pide a todos: ‘Negociad entre tanto que vengo’. Desde su propia sabiduría nos ha dado instrucciones para el empleo de sus dones. Los talentos del habla, la memoria, la influencia, las propiedades, deben amontonarse para la gloria de Dios y la promoción de su reino. El bendecirá el uso debido de esos dones” (Consejos sobre Mayordomía Cristiana, p. 12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3A65F-597C-4F02-AF6C-37A6E2BFAC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3" name="Picture 4" descr="Leadership02"/>
          <p:cNvPicPr/>
          <p:nvPr/>
        </p:nvPicPr>
        <p:blipFill>
          <a:blip r:embed="rId1"/>
          <a:stretch/>
        </p:blipFill>
        <p:spPr>
          <a:xfrm>
            <a:off x="0" y="0"/>
            <a:ext cx="9144000" cy="6858000"/>
          </a:xfrm>
          <a:prstGeom prst="rect">
            <a:avLst/>
          </a:prstGeom>
          <a:ln w="0">
            <a:noFill/>
          </a:ln>
        </p:spPr>
      </p:pic>
      <p:sp>
        <p:nvSpPr>
          <p:cNvPr id="94" name="PlaceHolder 2"/>
          <p:cNvSpPr>
            <a:spLocks noGrp="1"/>
          </p:cNvSpPr>
          <p:nvPr>
            <p:ph/>
          </p:nvPr>
        </p:nvSpPr>
        <p:spPr>
          <a:xfrm>
            <a:off x="395280" y="1413000"/>
            <a:ext cx="6120000" cy="4525920"/>
          </a:xfrm>
          <a:prstGeom prst="rect">
            <a:avLst/>
          </a:prstGeom>
          <a:noFill/>
          <a:ln w="0">
            <a:noFill/>
          </a:ln>
        </p:spPr>
        <p:txBody>
          <a:bodyPr anchor="t">
            <a:normAutofit/>
          </a:bodyPr>
          <a:p>
            <a:pPr marL="343080" indent="-343080" algn="ctr">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rabajar juntos trae sus desafíos y sus recompensas. De vez en cuando, deberíamos evaluarnos para determinar nuestros estilos de liderazgo. Es particularmente importante conocer, antes de tomar una importante tarea de guiar a o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9T21:37:13Z</dcterms:created>
  <dc:creator>ArraisR</dc:creator>
  <dc:description/>
  <dc:language>en-US</dc:language>
  <cp:lastModifiedBy>glaucia.meireles</cp:lastModifiedBy>
  <dcterms:modified xsi:type="dcterms:W3CDTF">2010-03-10T18:44:33Z</dcterms:modified>
  <cp:revision>60</cp:revision>
  <dc:subject/>
  <dc:title>Slide 1</dc:title>
</cp:coreProperties>
</file>